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28DA4-D886-423B-99D0-5296A072AE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19F9E-DB83-4F99-B868-5970B544EE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1924D-64D7-489B-A610-DAFDDB23B0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3FA83-47B2-4798-AFF6-D340379C00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D1D58-A952-4C78-88D8-995F3A4446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FF944-023D-4825-9819-50738962C1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3B57B-BA60-475A-890B-6EF9A52961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FAD15-F499-4544-99E8-9F703B8BC0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8F5B0-C421-4A2A-A28E-9B907871FC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EAD27-3F52-434E-B264-27BA7A1DE2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E62C4-D301-4A4E-A3AE-0CA2C49FD6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F11F8-AE38-4BEB-A46B-98A43A1838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83A53-9866-4CD3-93FE-7076A30144E3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grating to WDI 3.2 on Win2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e Edenfie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anager e-Commerce Syste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Hagemeyer North America, Inc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y we chose WDI 3.2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miliarity – we’ve been using DI since 19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e of migration from DI 2.1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e of future migr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 Patterns for e-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 decision to include DI in Websphere fam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for older EDI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DACOMS, ODETTE, UCS, X.12 V2R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for new XML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AGIS BODs, Commerce 1 xCBL, Rosetta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QSeries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y we chose Window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certainty about future ERP plat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/390, AS/400, Unix? Some combination?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thing now has a Windows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extend the life of our S/3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ayed implementation of replacem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ed business growth through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AIX expertise and exper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 seemed adequ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adth of tools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rlier release of new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entry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y we chose Data Transformation map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 told us to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ier future mig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ter Websphere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’t have to learn both m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ter XML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 to any (almo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esigning data form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Hagemeyer Business Message (HB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ere going to re-map everything any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liked the mapper bet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at we thought we were going to do…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message based integration hub architecture based on IBM Patterns for e-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ize all documents to HBM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MQSeries for message tran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MQSeries Integrator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70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ro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70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” data 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70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archi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WDI for “complex” data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MQSeries Workflow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70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-to-end aud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70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running transaction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jor design point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-21924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support existing business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be able to support new business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be able to easily accommodate changes in the operating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be able to handle the 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 time requirements are getting sho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tform indepen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Flexibility and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June 2002 we started to build it…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mbled the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ed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an documenting as-is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ed HBM form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ed building the HNA EDI “bolt-on” for the H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Movex 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vex e-Collaborator - XML over MQSe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all legacy EDI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olidate transactions with common trading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d implementation by business subsystem – purchasing and A/P fi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he rules change, but the project survive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ject scope chan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GS put on hold – late 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UNITE – target ERP chan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ased mi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d to support Vallen ERP system temporar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ERP is CamBar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ded to map Vallen EDI to ADF direc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 term n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len ADFs are very “EDI-lik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wer Vallen interface changes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e to develop HBM for CamB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-state and Allied put on 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he rules change again…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UNITE cancelled late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mBar put on 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len now longer term n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sh we had mapped to the HB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andoned WW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ed using new architecture to meet new requirements (XML, CS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d Websphere Application Server (W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S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solution components now built in 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o what did we actually build?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age based integration hub using MQS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Q enabled legacy application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MQI used for routing and simple 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programs used for utility fun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archi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 parser, search tool, comparison tool, ro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 used for https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QSS used for VAN traf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DI used for complex data 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hallenges we encountere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CII-EBCDIC con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ed and zoned decimal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 Segment delimi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blo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message per trans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CR&gt;&lt;LF&gt; separ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F record lengths have to m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Objective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are w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WDI 3.2? Why Windows? Why DT map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id we plan to do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id we actually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we are n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will it all e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hallenges we encountered (continued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DI-MQSeries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ile se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 character queue name li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al to physical filename ma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T mapping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loop function (XML large text fiel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-to-many transactions (outbound 8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-to-one transactions (outbound 85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hallenges we encountered (continued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DI 3.2 in general and the DT mapper in particular are actually new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ersion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PM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support evol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action store support evol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ces in how trading partners are handled – TP resolution, map rule selection, transaction store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ces from one document type to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ces from the way it works with S/R m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ere are we today?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migrated all Vallen VAN traffic to MQ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MQ enabled all Vallen EDI application interfa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developed DT maps for all Vallen transactions and trading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re currently migrating Vallen trading partners and maps to W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en will it end?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len migration to WDI 3.2 complete in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grate CamBar to WDI 3.2 in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Web site under construction – to be integrated with all the legacy ER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requirements appear all th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over the 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1/AS2, HTTPs, SMTP, MQSeries, FTP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-time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XML “standard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ERP in 2007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 process – there is no end in s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ummary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72640" y="14317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in progres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ules keep chan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uture is still uncerta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rchitecture is flexible enough to handle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is better than exp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gemeijer &amp; Co. was established in the former Dutch East Indies (now Indonesia) in 1900. Today, Hagemeyer N.V. is headquartered in Naarden, Netherlands (near Amsterdam). The company has 22,000+ employees serving more than a million customers in 37 countries worldwi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gemeyer North America, Inc. (HNA), A wholly owned subsidiary of Hagemeyer N.V., is a wholesale distributor focusing on business-to-business markets in electrical, safety, and industrial products and services throughout North America. HNA’s 4900+ associates serve more than 100,000 customers from approximately 500 locations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Hagemeyer%20NA%20-%20COLOR" descr=""/>
          <p:cNvPicPr/>
          <p:nvPr/>
        </p:nvPicPr>
        <p:blipFill>
          <a:blip r:embed="rId1"/>
          <a:stretch/>
        </p:blipFill>
        <p:spPr>
          <a:xfrm>
            <a:off x="584280" y="654120"/>
            <a:ext cx="3022560" cy="5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Our environment when we started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198720" indent="-19872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gemeyer acquisitions in the U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9–2000 Hagemeyer N.V. acquired 4 U.S. compan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meron &amp; Barkley Co. (CamBar) - ~55% of HNA 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/390 – in-house ERP – DI2.1 trans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-40% of business transactions 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len Safety Supply – ~35 % of HNA 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/400 – in-house ERP – Harbinger TLE trans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-30% of business transactions 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-state Electrical Supply – ~8% of HNA 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X – package ERP – minimal 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ied Electrical – ~2% of HNA 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X – modified package ERP - No 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agemeyer Global Solution ( HGS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ERP – Movex ERP on AS/400 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instances (3 OR 4) in Europe, Australia, and the U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lt-on” solutions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rehousing/log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Commerce (we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intellig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ased migration by Operating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jor events in the timeline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gemeyer acquisitions in the US, Canada, and Mexico formally combine into Hagemeyer North America, Inc. (H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operating on separate ERP systems as semi-independent operating companies (OpC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NA OpCos sent associates to the Netherlands to participate on Hagemeyer Solution Teams (HST) developing and implementing the Hagemeyer Global Solution (H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jor events in the timeline (continued…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2 (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l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HST reported that the HGS for EDI will not satisfy HNA requirements without a lot more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NA decided to build HNA specific EDI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NA does more than twice as much EDI as the rest of Hagemeyer combined. We hoped we could “sell” our solution to the rest of Hagemeyer when we were do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x is still the target 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2 (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l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gemeyer put the entire HGS project “on hol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NA decided to migrate all US OpCos to one of our existing legacy systems (project Unite) – ERP target unkn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NA budget for HGS is re-allocated to project Un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jor events in the timeline (continued…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3 (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l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e target ERP selected – CamBar system with m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d migration by customer segment and ge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3 (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l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Unite postponed until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gration to common EDI solution 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target ERP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transactions using the new infrastructure go l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5000"/>
              </a:lnSpc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XML based transa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dget allocated to HGS/Unite project runs out 12/31/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jor events in the timeline (continued…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NA reorganizes EDI support resources into e-commerce Systems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migrated transactions go live July 1,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Vallen migration in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CamBar migration in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e project may have eliminated the other systems by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Lee Edenfield</cp:lastModifiedBy>
  <dcterms:modified xsi:type="dcterms:W3CDTF">2004-07-16T14:54:07Z</dcterms:modified>
  <cp:revision>881</cp:revision>
  <dc:subject/>
  <dc:title>IBM Software Group</dc:title>
</cp:coreProperties>
</file>