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5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6464-6359-4D38-B830-8596B6D8E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What is RF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ont-end data capture (i.e., Auto-ID)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it as 3 technologies in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337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 range wireless communication system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e.g., 8-15 ft rang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337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ble memory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like a floppy disk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 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ition/motion det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nabler for the EPC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nt-end architect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 mounted rea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forkl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of fixed mount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ti-colli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ltra-fast printer que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cessing multiple docu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d or wireless Ethernet is used to connect readers to back-end systems.  Readers have IP addre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hierarch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le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ain fo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ub-f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m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ub-sub-f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gregation is needed for dealing with RF unfriendly materials because one cannot read through metals &amp; liqu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-aggregation for mixed pallet loads will be one of our most challenging implementation 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400" rIns="86400" tIns="43200" bIns="432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ven with slap &amp; ship, we need readers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rite EPCs to tags and to verify operability (after applic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gile readers will minimize our ris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ab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ty and Hostile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data entry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 msec per read; 10x’s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8D538-2EDA-4496-BFD8-376F693A7A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930E0-9375-4672-AC02-C39F84A65E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62A54-72EA-461D-B49B-25D82FFAE0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0F18E-FCD5-43F5-B310-E2624C5545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2077B-BE12-4FB1-BD9F-B01EEDDD08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7997D-888A-4C8C-8C00-DF315EAB83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D96CC-CF79-438A-B86B-FF7857B301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B188F-DB1E-41E0-B7F4-81CDDB5948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7A8E5-9C1C-4735-A7F8-623506ED5D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1A689-9B89-434F-990D-9803C4AB0C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52E1B-E36F-4D3F-A444-3F36E0BCCF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0B652-7FC7-4692-B133-1A7723200B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6DEA-D848-4CA6-90B7-B3452A536FEE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vid L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raft Foo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590400" y="1901880"/>
            <a:ext cx="8088480" cy="3521160"/>
            <a:chOff x="590400" y="1901880"/>
            <a:chExt cx="8088480" cy="3521160"/>
          </a:xfrm>
        </p:grpSpPr>
        <p:sp>
          <p:nvSpPr>
            <p:cNvPr id="322" name=""/>
            <p:cNvSpPr/>
            <p:nvPr/>
          </p:nvSpPr>
          <p:spPr>
            <a:xfrm>
              <a:off x="590400" y="1901880"/>
              <a:ext cx="8088480" cy="352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873720" y="2180520"/>
              <a:ext cx="7652520" cy="3196080"/>
              <a:chOff x="873720" y="2180520"/>
              <a:chExt cx="7652520" cy="3196080"/>
            </a:xfrm>
          </p:grpSpPr>
          <p:pic>
            <p:nvPicPr>
              <p:cNvPr id="324" name="aboutthetech_efficiency" descr=""/>
              <p:cNvPicPr/>
              <p:nvPr/>
            </p:nvPicPr>
            <p:blipFill>
              <a:blip r:embed="rId1"/>
              <a:stretch/>
            </p:blipFill>
            <p:spPr>
              <a:xfrm>
                <a:off x="873720" y="2204280"/>
                <a:ext cx="3389760" cy="314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5" name="aboutthetech_efficiencyinv" descr=""/>
              <p:cNvPicPr/>
              <p:nvPr/>
            </p:nvPicPr>
            <p:blipFill>
              <a:blip r:embed="rId2"/>
              <a:stretch/>
            </p:blipFill>
            <p:spPr>
              <a:xfrm>
                <a:off x="5136480" y="2180520"/>
                <a:ext cx="3389760" cy="319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"/>
              <p:cNvSpPr/>
              <p:nvPr/>
            </p:nvSpPr>
            <p:spPr>
              <a:xfrm>
                <a:off x="4371480" y="3037320"/>
                <a:ext cx="605160" cy="153036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7889f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7" name=""/>
          <p:cNvSpPr/>
          <p:nvPr/>
        </p:nvSpPr>
        <p:spPr>
          <a:xfrm>
            <a:off x="817920" y="5573880"/>
            <a:ext cx="28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er Wareh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88320" y="557388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e Do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552600"/>
            <a:ext cx="8610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“Readers and Transmitters” are used to upd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tion of product in the supply networ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433800" y="368280"/>
            <a:ext cx="66272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At the point of purchase retail inventory is upd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manufacturers receive notice for replenishm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51000" y="1673280"/>
            <a:ext cx="8450280" cy="4226040"/>
            <a:chOff x="351000" y="1673280"/>
            <a:chExt cx="8450280" cy="4226040"/>
          </a:xfrm>
        </p:grpSpPr>
        <p:sp>
          <p:nvSpPr>
            <p:cNvPr id="332" name=""/>
            <p:cNvSpPr/>
            <p:nvPr/>
          </p:nvSpPr>
          <p:spPr>
            <a:xfrm>
              <a:off x="351000" y="1673280"/>
              <a:ext cx="8450280" cy="4226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583920" y="1952640"/>
              <a:ext cx="7994880" cy="3252600"/>
              <a:chOff x="583920" y="1952640"/>
              <a:chExt cx="7994880" cy="3252600"/>
            </a:xfrm>
          </p:grpSpPr>
          <p:pic>
            <p:nvPicPr>
              <p:cNvPr id="334" name="aboutthetech_overstocking" descr=""/>
              <p:cNvPicPr/>
              <p:nvPr/>
            </p:nvPicPr>
            <p:blipFill>
              <a:blip r:embed="rId1"/>
              <a:stretch/>
            </p:blipFill>
            <p:spPr>
              <a:xfrm>
                <a:off x="583920" y="1952640"/>
                <a:ext cx="3544560" cy="322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aboutthetech_consumer" descr=""/>
              <p:cNvPicPr/>
              <p:nvPr/>
            </p:nvPicPr>
            <p:blipFill>
              <a:blip r:embed="rId2"/>
              <a:stretch/>
            </p:blipFill>
            <p:spPr>
              <a:xfrm>
                <a:off x="5044680" y="1952640"/>
                <a:ext cx="3534120" cy="325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"/>
              <p:cNvSpPr/>
              <p:nvPr/>
            </p:nvSpPr>
            <p:spPr>
              <a:xfrm>
                <a:off x="4246560" y="2879280"/>
                <a:ext cx="631080" cy="154440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7889f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1506960" y="5279760"/>
              <a:ext cx="156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tail Shel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632560" y="5270400"/>
              <a:ext cx="230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sumer Pant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6200" y="650880"/>
            <a:ext cx="91155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360" y="1290240"/>
            <a:ext cx="8648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adio Frequency Identification (RFI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a short-range wirel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ID technology based on radio wave trans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tomatic Identification (Auto-I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data capture technolo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eliminate the need for manual entry of info via a keyp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lectronic Product Code (EP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a numerical coding scheme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quely identifying distribution objects (e.g., pallets, cases, items, etc)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PC 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system of Auto-ID readers linked to the inter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racking EPC-labeled distribution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bject Name Serv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When a reader picks up an EPC a computer will need  to find information about the produ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62080" y="584280"/>
            <a:ext cx="64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ng/Contrasting UHF &amp; HF Ta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31640" y="1384200"/>
          <a:ext cx="6603840" cy="4114800"/>
        </p:xfrm>
        <a:graphic>
          <a:graphicData uri="http://schemas.openxmlformats.org/drawingml/2006/table">
            <a:tbl>
              <a:tblPr/>
              <a:tblGrid>
                <a:gridCol w="3476520"/>
                <a:gridCol w="3127320"/>
              </a:tblGrid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HF (915MHz or 868MHz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89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F (13.56MHz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89fb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all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gg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ap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re expensiv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ster (5-10ms read ti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lower (50-100ms read ti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tricted in some countri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lobally avail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ss penetration of met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tter penetration of met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orter read r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nger read r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 hopping to minimize interfere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frequency hopp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stic electronics are not fast enough for UHF ta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stic electronics are fast enough for HF ta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7494480" y="1263600"/>
            <a:ext cx="128268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ake away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HF tags will be used for pallets &amp; ca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stic electronic HF tags will be used for ite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990720" y="1650960"/>
            <a:ext cx="6973920" cy="33480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785880" y="803160"/>
            <a:ext cx="6451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1400" bIns="41400" anchor="t">
            <a:noAutofit/>
          </a:bodyPr>
          <a:p>
            <a:pPr marL="361800" indent="-361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s Of An RFID Ta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rcRect l="12189" t="31255" r="11252" b="12502"/>
          <a:stretch/>
        </p:blipFill>
        <p:spPr>
          <a:xfrm>
            <a:off x="1049400" y="1282680"/>
            <a:ext cx="7248600" cy="34416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920880" y="552600"/>
            <a:ext cx="496548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C:  96-Bit Ver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71720" y="4815000"/>
            <a:ext cx="6744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nique identifi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or license plate) for every distribution obj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ed to be scaleable and extensi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s as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a back-end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powerful than a UPC, but can still track objects at the SKU-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06440" y="711360"/>
            <a:ext cx="53085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RFID Wor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390800" y="2293920"/>
            <a:ext cx="1326960" cy="1228320"/>
            <a:chOff x="7390800" y="2293920"/>
            <a:chExt cx="1326960" cy="1228320"/>
          </a:xfrm>
        </p:grpSpPr>
        <p:sp>
          <p:nvSpPr>
            <p:cNvPr id="351" name=""/>
            <p:cNvSpPr/>
            <p:nvPr/>
          </p:nvSpPr>
          <p:spPr>
            <a:xfrm flipH="1" rot="16200000">
              <a:off x="7060320" y="2634840"/>
              <a:ext cx="1198440" cy="53820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rot="16200000">
              <a:off x="7880040" y="2032560"/>
              <a:ext cx="576000" cy="109836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rot="16200000">
              <a:off x="7857000" y="2679120"/>
              <a:ext cx="644400" cy="104148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083800" y="2662200"/>
              <a:ext cx="323640" cy="126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172720" y="2682720"/>
              <a:ext cx="150480" cy="70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7578720" y="1295280"/>
            <a:ext cx="1046160" cy="87156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20120" y="1486080"/>
            <a:ext cx="912600" cy="30708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7050240" y="635040"/>
            <a:ext cx="2085840" cy="2088360"/>
            <a:chOff x="7050240" y="635040"/>
            <a:chExt cx="2085840" cy="2088360"/>
          </a:xfrm>
        </p:grpSpPr>
        <p:sp>
          <p:nvSpPr>
            <p:cNvPr id="359" name=""/>
            <p:cNvSpPr/>
            <p:nvPr/>
          </p:nvSpPr>
          <p:spPr>
            <a:xfrm flipV="1" rot="18960000">
              <a:off x="7692120" y="1254960"/>
              <a:ext cx="816120" cy="87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 rot="18960000">
              <a:off x="7589880" y="1146240"/>
              <a:ext cx="1022040" cy="108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 rot="18960000">
              <a:off x="7484040" y="1032480"/>
              <a:ext cx="1225080" cy="130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 rot="18960000">
              <a:off x="7378920" y="916560"/>
              <a:ext cx="142812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533520" y="1452600"/>
            <a:ext cx="8610480" cy="37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readers emit EM wa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waves wirelessly power up nearby ta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waves also carry encoded reader comm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in close proximity respond to reader comm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ers can read multiple tags at o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perty is called anti-coll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spec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0 tag reads per seco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ers filter tag data dumping relevant info to a back-e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for storage &amp; data proce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Case%20with%20RFID" descr=""/>
          <p:cNvPicPr/>
          <p:nvPr/>
        </p:nvPicPr>
        <p:blipFill>
          <a:blip r:embed="rId1"/>
          <a:stretch/>
        </p:blipFill>
        <p:spPr>
          <a:xfrm>
            <a:off x="592200" y="2487600"/>
            <a:ext cx="2189160" cy="1219320"/>
          </a:xfrm>
          <a:prstGeom prst="rect">
            <a:avLst/>
          </a:prstGeom>
          <a:ln w="0">
            <a:noFill/>
          </a:ln>
        </p:spPr>
      </p:pic>
      <p:pic>
        <p:nvPicPr>
          <p:cNvPr id="365" name="Kraft%20item%20with%20RFID" descr=""/>
          <p:cNvPicPr/>
          <p:nvPr/>
        </p:nvPicPr>
        <p:blipFill>
          <a:blip r:embed="rId2"/>
          <a:stretch/>
        </p:blipFill>
        <p:spPr>
          <a:xfrm>
            <a:off x="361800" y="1352520"/>
            <a:ext cx="1140120" cy="1279440"/>
          </a:xfrm>
          <a:prstGeom prst="rect">
            <a:avLst/>
          </a:prstGeom>
          <a:ln w="0">
            <a:noFill/>
          </a:ln>
        </p:spPr>
      </p:pic>
      <p:pic>
        <p:nvPicPr>
          <p:cNvPr id="366" name="RF-Pallet2" descr=""/>
          <p:cNvPicPr/>
          <p:nvPr/>
        </p:nvPicPr>
        <p:blipFill>
          <a:blip r:embed="rId3"/>
          <a:stretch/>
        </p:blipFill>
        <p:spPr>
          <a:xfrm>
            <a:off x="380880" y="3878280"/>
            <a:ext cx="4457880" cy="26240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298440" y="674640"/>
            <a:ext cx="834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gregation Is Critical For EPC/RF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713040" y="2225520"/>
            <a:ext cx="51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se aggreg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linking item EPCs to their case EPC on a back-end server.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649680" y="3710160"/>
            <a:ext cx="5170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llet aggreg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linking case EPCs to their pallet EPC on a back-end server.   When at least one tag affiliated with the pallet is read, all other tags affiliated with the pallet can be inferred from a back-end database look-u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209680" y="2416320"/>
            <a:ext cx="1136880" cy="6397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1476000" y="1638000"/>
            <a:ext cx="1870200" cy="77796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2101680" y="3246120"/>
            <a:ext cx="1525680" cy="7621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569680" y="3989520"/>
            <a:ext cx="1057320" cy="21463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72880" y="731880"/>
            <a:ext cx="64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ized Reader Solutions Are Requi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5" name="175AuroraDryDCDoorways" descr=""/>
          <p:cNvPicPr/>
          <p:nvPr/>
        </p:nvPicPr>
        <p:blipFill>
          <a:blip r:embed="rId1"/>
          <a:stretch/>
        </p:blipFill>
        <p:spPr>
          <a:xfrm>
            <a:off x="3276720" y="3765600"/>
            <a:ext cx="2590560" cy="1689120"/>
          </a:xfrm>
          <a:prstGeom prst="rect">
            <a:avLst/>
          </a:prstGeom>
          <a:ln w="0">
            <a:noFill/>
          </a:ln>
        </p:spPr>
      </p:pic>
      <p:pic>
        <p:nvPicPr>
          <p:cNvPr id="376" name="AutoShrinkWrapper1" descr=""/>
          <p:cNvPicPr/>
          <p:nvPr/>
        </p:nvPicPr>
        <p:blipFill>
          <a:blip r:embed="rId2"/>
          <a:stretch/>
        </p:blipFill>
        <p:spPr>
          <a:xfrm>
            <a:off x="3238560" y="1390680"/>
            <a:ext cx="2666880" cy="1738440"/>
          </a:xfrm>
          <a:prstGeom prst="rect">
            <a:avLst/>
          </a:prstGeom>
          <a:ln w="0">
            <a:noFill/>
          </a:ln>
        </p:spPr>
      </p:pic>
      <p:pic>
        <p:nvPicPr>
          <p:cNvPr id="377" name="IsolatedMintPickBay4OdorTempIsolation" descr=""/>
          <p:cNvPicPr/>
          <p:nvPr/>
        </p:nvPicPr>
        <p:blipFill>
          <a:blip r:embed="rId3"/>
          <a:stretch/>
        </p:blipFill>
        <p:spPr>
          <a:xfrm>
            <a:off x="457200" y="3765600"/>
            <a:ext cx="2590920" cy="1689120"/>
          </a:xfrm>
          <a:prstGeom prst="rect">
            <a:avLst/>
          </a:prstGeom>
          <a:ln w="0">
            <a:noFill/>
          </a:ln>
        </p:spPr>
      </p:pic>
      <p:pic>
        <p:nvPicPr>
          <p:cNvPr id="378" name="conveyor" descr=""/>
          <p:cNvPicPr/>
          <p:nvPr/>
        </p:nvPicPr>
        <p:blipFill>
          <a:blip r:embed="rId4"/>
          <a:stretch/>
        </p:blipFill>
        <p:spPr>
          <a:xfrm>
            <a:off x="468360" y="1365120"/>
            <a:ext cx="2529000" cy="1789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693720" y="313992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Case convey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88280" y="3139920"/>
            <a:ext cx="15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Palletiz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15640" y="3139920"/>
            <a:ext cx="205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Smart forklif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06640" y="5538960"/>
            <a:ext cx="15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Doorw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12600" y="5524560"/>
            <a:ext cx="14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Pick-b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37040" y="552456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Handhel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5" name="Handheld%20RFID%20Reader4" descr=""/>
          <p:cNvPicPr/>
          <p:nvPr/>
        </p:nvPicPr>
        <p:blipFill>
          <a:blip r:embed="rId5"/>
          <a:stretch/>
        </p:blipFill>
        <p:spPr>
          <a:xfrm>
            <a:off x="6669000" y="3684600"/>
            <a:ext cx="1636920" cy="1649520"/>
          </a:xfrm>
          <a:prstGeom prst="rect">
            <a:avLst/>
          </a:prstGeom>
          <a:ln w="0">
            <a:noFill/>
          </a:ln>
        </p:spPr>
      </p:pic>
      <p:pic>
        <p:nvPicPr>
          <p:cNvPr id="386" name="forklift1" descr=""/>
          <p:cNvPicPr/>
          <p:nvPr/>
        </p:nvPicPr>
        <p:blipFill>
          <a:blip r:embed="rId6"/>
          <a:stretch/>
        </p:blipFill>
        <p:spPr>
          <a:xfrm>
            <a:off x="6126120" y="1328760"/>
            <a:ext cx="248436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60520" y="60336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Case…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41440" y="128088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ategy is not about RFID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product is where it’s suppose to be for the     least cos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you going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trace 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handizing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re moving from a push environment to a p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 – demand driven supply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66920" y="1992240"/>
            <a:ext cx="6555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l*Mart to Top 100 Supplier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g 100% Cases &amp; Pallets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0480" y="1643040"/>
            <a:ext cx="87231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eline: June, 2003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-438120" y="585720"/>
            <a:ext cx="86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siness case for Retailers is comp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0680" y="1217520"/>
            <a:ext cx="818820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productivity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s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pture of inventory movements – the elusive case at store lev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inventory accuracy with capture of ALL inventory movements – backroom to selling floor – total automated replenish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inventory levels from improved inventory visi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ustomer service through reduced out of stocks by maintaining selling floor perpetual inventory (3-4% lost due to lost sal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shrinkage could result in 1-7% saving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sales from improved in stock posi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501120"/>
            <a:ext cx="77724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other Retailers will not be far behi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20560" y="1066680"/>
            <a:ext cx="8623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.S. Department of Def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’ DoD RFID Policy due July ’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D working with Wal*M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ense Commissary Agency (DeCA) designing pilot for Q3’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ro Group – beyond the Future 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rmany only - 10 DC’s, 280 s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’04 pilot - to be def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 – a measured pace we li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onal deployment in Spring, 2005 (possibly T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ring 2007 – “Accept RFID from all vendors as a supplement to the current barcode marking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bertson’s – another ‘Top 100’ procla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5 pilot (possibly T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egory rollout, food lower pri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04920" y="604800"/>
            <a:ext cx="86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rs’ business cases differ grea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6360" y="1212840"/>
            <a:ext cx="85946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value products (electronics, pharmaceuticals) have a stronger ca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g costs represent a smaller percent of gross marg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ject to greater levels of counterfeit, shrin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risk products, highly regulated products (pharmaceuticals) require tighter control of the supply chai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r suppliers with greater scale and historical productivity have less incremental productivity to ga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case focused o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in-stock position at retai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unsaleables through improved inventory 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product diversion through trace ability of individual ca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inventory levels from improved inventory visibil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ginal productivity gai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8800" y="592200"/>
            <a:ext cx="82454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*Mart has taken the rei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0" y="1199880"/>
            <a:ext cx="862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, 2003 – “The shot heard ‘round the RFID wor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100 Suppliers to tag pallets and cases by January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Suppliers to tag pallets and cases by December 2006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100 laboratories around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the bar at 100% 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ing to solve for the issu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ier Collaboration Board (early adopters, including Kra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 (2004) - start up of three DC’s, 150 s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I (2005) – expansion yet to be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60520" y="698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22360" y="1471320"/>
            <a:ext cx="82627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chnology standards have not been established for tags, data or applications but great progress is being mad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ublic policy (privacy, workplace safety) issues are unresolved and could impact consumer accept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icing curve dynamics for tags and readers are unpredict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chnology does not currently perform sufficiently well to support elements of business case (i.e. case receiving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igh level support and resource commitment needed to establish company-wide EPC strategy and global roadma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acking products as they cross physical boundaries between trading partner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120" y="447840"/>
            <a:ext cx="833148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ust when you think you have it solved  ….  </a:t>
            </a:r>
            <a:endParaRPr b="0" lang="en-US" sz="27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20560" y="1072800"/>
            <a:ext cx="862344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ing resource commitment to customer pi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retailer interest, SKU expansion, location 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distribution flow of cases into customer locations (DPS,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y sourc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ving for unfriendly products and pack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quids absorb RF, metals/foils reflect, humidity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ng technology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chasing scale, strategic partnership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ing financial investments with no visibility of a benefit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ificant infrastructure investment ($10’s of MM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2200" y="11649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/RFID has the potential to be a transformational technology that change our expectations of supply chain perform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alizing this opportunity requires the integration of business process change and technological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ady progress will be required to validate the business proposition as we align the costs and benefits with our custom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EPC/RFID a reality, we need to develop open, inclusively defined technology, data and application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1066680" y="1120680"/>
            <a:ext cx="7010280" cy="4985640"/>
            <a:chOff x="1066680" y="1120680"/>
            <a:chExt cx="7010280" cy="4985640"/>
          </a:xfrm>
        </p:grpSpPr>
        <p:sp>
          <p:nvSpPr>
            <p:cNvPr id="145" name=""/>
            <p:cNvSpPr/>
            <p:nvPr/>
          </p:nvSpPr>
          <p:spPr>
            <a:xfrm>
              <a:off x="1066680" y="1120680"/>
              <a:ext cx="70102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1066680" y="1120680"/>
              <a:ext cx="5594400" cy="4985640"/>
              <a:chOff x="1066680" y="1120680"/>
              <a:chExt cx="5594400" cy="4985640"/>
            </a:xfrm>
          </p:grpSpPr>
          <p:sp>
            <p:nvSpPr>
              <p:cNvPr id="147" name=""/>
              <p:cNvSpPr/>
              <p:nvPr/>
            </p:nvSpPr>
            <p:spPr>
              <a:xfrm>
                <a:off x="1066680" y="1120680"/>
                <a:ext cx="42861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1066680" y="1120680"/>
                <a:ext cx="5594400" cy="4985640"/>
                <a:chOff x="1066680" y="1120680"/>
                <a:chExt cx="5594400" cy="49856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1066680" y="1120680"/>
                  <a:ext cx="4268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0" name=""/>
                <p:cNvGrpSpPr/>
                <p:nvPr/>
              </p:nvGrpSpPr>
              <p:grpSpPr>
                <a:xfrm>
                  <a:off x="1066680" y="1120680"/>
                  <a:ext cx="5594400" cy="4985640"/>
                  <a:chOff x="1066680" y="1120680"/>
                  <a:chExt cx="5594400" cy="498564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1066680" y="1120680"/>
                    <a:ext cx="4205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1066680" y="1120680"/>
                    <a:ext cx="5594400" cy="49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  </a:t>
                    </a:r>
                    <a:r>
                      <a:rPr b="0" lang="en-US" sz="249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 </a:t>
                    </a: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                                                                    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153" name="ghostrider3" descr="View From Top"/>
          <p:cNvPicPr/>
          <p:nvPr/>
        </p:nvPicPr>
        <p:blipFill>
          <a:blip r:embed="rId1"/>
          <a:stretch/>
        </p:blipFill>
        <p:spPr>
          <a:xfrm>
            <a:off x="76320" y="63360"/>
            <a:ext cx="8978760" cy="677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17440" y="647640"/>
            <a:ext cx="860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1200" y="1544760"/>
            <a:ext cx="818820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siness C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C Roadm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sight on RF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308320" y="192096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39200" y="477720"/>
            <a:ext cx="91155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PC / RFID and Bar Cod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41920" y="2259000"/>
            <a:ext cx="51480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ssive data capture (no human interventio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optical line-of-sight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ility to read multiple tags simultaneous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ization of product code en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nd trace – specific case identification for precise recall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entication – identify counterf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 tags may have ability to update cont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ple write capability – update data along the supply chain, providing a hi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hanced functionality – environmental information  (i.e. temperature tracking, physical abuse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8320" y="5595840"/>
            <a:ext cx="819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 codes and RFID tags will co-exist for a long tim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88760" y="1039680"/>
            <a:ext cx="1221480" cy="1063800"/>
            <a:chOff x="788760" y="1039680"/>
            <a:chExt cx="1221480" cy="1063800"/>
          </a:xfrm>
        </p:grpSpPr>
        <p:grpSp>
          <p:nvGrpSpPr>
            <p:cNvPr id="163" name=""/>
            <p:cNvGrpSpPr/>
            <p:nvPr/>
          </p:nvGrpSpPr>
          <p:grpSpPr>
            <a:xfrm>
              <a:off x="839880" y="1039680"/>
              <a:ext cx="1119600" cy="934560"/>
              <a:chOff x="839880" y="1039680"/>
              <a:chExt cx="1119600" cy="934560"/>
            </a:xfrm>
          </p:grpSpPr>
          <p:sp>
            <p:nvSpPr>
              <p:cNvPr id="164" name=""/>
              <p:cNvSpPr/>
              <p:nvPr/>
            </p:nvSpPr>
            <p:spPr>
              <a:xfrm>
                <a:off x="839880" y="1039680"/>
                <a:ext cx="291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0640" y="1039680"/>
                <a:ext cx="507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011960" y="1039680"/>
                <a:ext cx="291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0897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1275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1656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2038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7578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7960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296000" y="1039680"/>
                <a:ext cx="1692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354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8936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9422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594080" y="1039680"/>
                <a:ext cx="1620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642320" y="1039680"/>
                <a:ext cx="158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696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39248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64120" y="1039680"/>
                <a:ext cx="302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5152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9422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8936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7960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7578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642320" y="1039680"/>
                <a:ext cx="158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354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1656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890640" y="1039680"/>
                <a:ext cx="507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39880" y="1039680"/>
                <a:ext cx="291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011960" y="1039680"/>
                <a:ext cx="291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0897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1275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038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96000" y="1039680"/>
                <a:ext cx="1692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39248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464120" y="1039680"/>
                <a:ext cx="302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5152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594080" y="1039680"/>
                <a:ext cx="1620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696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788760" y="1796400"/>
              <a:ext cx="122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9000 0732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3" name="RFID%20tag5" descr=""/>
          <p:cNvPicPr/>
          <p:nvPr/>
        </p:nvPicPr>
        <p:blipFill>
          <a:blip r:embed="rId1"/>
          <a:stretch/>
        </p:blipFill>
        <p:spPr>
          <a:xfrm>
            <a:off x="4422600" y="1058760"/>
            <a:ext cx="1079640" cy="10717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51000" y="2097000"/>
            <a:ext cx="3116160" cy="21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expens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lled infrastruc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capture signal – it ‘beeps when it reads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-433440" y="746280"/>
            <a:ext cx="7772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 Deployment (Generi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7559640" y="2239920"/>
            <a:ext cx="650880" cy="1455840"/>
          </a:xfrm>
          <a:custGeom>
            <a:avLst/>
            <a:gdLst>
              <a:gd name="textAreaLeft" fmla="*/ 87120 w 650880"/>
              <a:gd name="textAreaRight" fmla="*/ 563760 w 650880"/>
              <a:gd name="textAreaTop" fmla="*/ 254880 h 1455840"/>
              <a:gd name="textAreaBottom" fmla="*/ 1055880 h 14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86720" y="3333600"/>
            <a:ext cx="984240" cy="82260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981000" y="5063400"/>
            <a:ext cx="4062600" cy="669960"/>
          </a:xfrm>
          <a:prstGeom prst="parallelogram">
            <a:avLst>
              <a:gd name="adj" fmla="val 21168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085040" y="3203640"/>
            <a:ext cx="2049480" cy="888840"/>
          </a:xfrm>
          <a:prstGeom prst="flowChartMagneticDrum">
            <a:avLst/>
          </a:prstGeom>
          <a:gradFill rotWithShape="0">
            <a:gsLst>
              <a:gs pos="0">
                <a:srgbClr val="d18213"/>
              </a:gs>
              <a:gs pos="100000">
                <a:srgbClr val="f9f1e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62120" y="2328840"/>
            <a:ext cx="801720" cy="2221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54360" y="1569960"/>
            <a:ext cx="372960" cy="123840"/>
          </a:xfrm>
          <a:prstGeom prst="ellipse">
            <a:avLst/>
          </a:prstGeom>
          <a:solidFill>
            <a:srgbClr val="2db6b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27160" y="1814400"/>
            <a:ext cx="0" cy="393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43000" y="2660760"/>
            <a:ext cx="0" cy="393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5280" y="2338560"/>
            <a:ext cx="825480" cy="30708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5200" y="1566720"/>
            <a:ext cx="954000" cy="307080"/>
          </a:xfrm>
          <a:prstGeom prst="rect">
            <a:avLst/>
          </a:prstGeom>
          <a:solidFill>
            <a:srgbClr val="99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p/T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662120" y="3119400"/>
            <a:ext cx="801720" cy="222120"/>
            <a:chOff x="1662120" y="3119400"/>
            <a:chExt cx="801720" cy="222120"/>
          </a:xfrm>
        </p:grpSpPr>
        <p:sp>
          <p:nvSpPr>
            <p:cNvPr id="217" name=""/>
            <p:cNvSpPr/>
            <p:nvPr/>
          </p:nvSpPr>
          <p:spPr>
            <a:xfrm>
              <a:off x="1662120" y="3119400"/>
              <a:ext cx="8017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80640" y="3155760"/>
              <a:ext cx="37332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808280" y="3254400"/>
            <a:ext cx="799920" cy="222120"/>
            <a:chOff x="1808280" y="3254400"/>
            <a:chExt cx="799920" cy="222120"/>
          </a:xfrm>
        </p:grpSpPr>
        <p:sp>
          <p:nvSpPr>
            <p:cNvPr id="220" name=""/>
            <p:cNvSpPr/>
            <p:nvPr/>
          </p:nvSpPr>
          <p:spPr>
            <a:xfrm>
              <a:off x="1808280" y="3254400"/>
              <a:ext cx="7999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26440" y="3290760"/>
              <a:ext cx="37260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954080" y="3389400"/>
            <a:ext cx="800280" cy="222120"/>
            <a:chOff x="1954080" y="3389400"/>
            <a:chExt cx="800280" cy="222120"/>
          </a:xfrm>
        </p:grpSpPr>
        <p:sp>
          <p:nvSpPr>
            <p:cNvPr id="223" name=""/>
            <p:cNvSpPr/>
            <p:nvPr/>
          </p:nvSpPr>
          <p:spPr>
            <a:xfrm>
              <a:off x="1954080" y="3389400"/>
              <a:ext cx="80028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72240" y="3425760"/>
              <a:ext cx="37296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098800" y="3524400"/>
            <a:ext cx="801720" cy="222120"/>
            <a:chOff x="2098800" y="3524400"/>
            <a:chExt cx="801720" cy="222120"/>
          </a:xfrm>
        </p:grpSpPr>
        <p:sp>
          <p:nvSpPr>
            <p:cNvPr id="226" name=""/>
            <p:cNvSpPr/>
            <p:nvPr/>
          </p:nvSpPr>
          <p:spPr>
            <a:xfrm>
              <a:off x="2098800" y="3524400"/>
              <a:ext cx="8017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17320" y="3560760"/>
              <a:ext cx="37332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244600" y="3660840"/>
            <a:ext cx="800280" cy="222120"/>
            <a:chOff x="2244600" y="3660840"/>
            <a:chExt cx="800280" cy="222120"/>
          </a:xfrm>
        </p:grpSpPr>
        <p:sp>
          <p:nvSpPr>
            <p:cNvPr id="229" name=""/>
            <p:cNvSpPr/>
            <p:nvPr/>
          </p:nvSpPr>
          <p:spPr>
            <a:xfrm>
              <a:off x="2244600" y="3660840"/>
              <a:ext cx="80028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62760" y="3697200"/>
              <a:ext cx="37296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566640" y="4130640"/>
            <a:ext cx="1081080" cy="30708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27240" y="4149720"/>
            <a:ext cx="0" cy="393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473880" y="1839960"/>
            <a:ext cx="1055520" cy="1144440"/>
            <a:chOff x="6473880" y="1839960"/>
            <a:chExt cx="1055520" cy="1144440"/>
          </a:xfrm>
        </p:grpSpPr>
        <p:sp>
          <p:nvSpPr>
            <p:cNvPr id="234" name=""/>
            <p:cNvSpPr/>
            <p:nvPr/>
          </p:nvSpPr>
          <p:spPr>
            <a:xfrm>
              <a:off x="6473880" y="1839960"/>
              <a:ext cx="1055520" cy="114444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6240" y="2243520"/>
              <a:ext cx="923040" cy="5202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ck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908520" y="1660680"/>
            <a:ext cx="1054080" cy="1144440"/>
            <a:chOff x="3908520" y="1660680"/>
            <a:chExt cx="1054080" cy="1144440"/>
          </a:xfrm>
        </p:grpSpPr>
        <p:sp>
          <p:nvSpPr>
            <p:cNvPr id="237" name=""/>
            <p:cNvSpPr/>
            <p:nvPr/>
          </p:nvSpPr>
          <p:spPr>
            <a:xfrm>
              <a:off x="3908520" y="1660680"/>
              <a:ext cx="1054080" cy="114444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20480" y="2113200"/>
              <a:ext cx="852840" cy="5202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694480" y="3971880"/>
            <a:ext cx="2852640" cy="1503000"/>
            <a:chOff x="5694480" y="3971880"/>
            <a:chExt cx="2852640" cy="1503000"/>
          </a:xfrm>
        </p:grpSpPr>
        <p:sp>
          <p:nvSpPr>
            <p:cNvPr id="240" name=""/>
            <p:cNvSpPr/>
            <p:nvPr/>
          </p:nvSpPr>
          <p:spPr>
            <a:xfrm>
              <a:off x="8263440" y="5042160"/>
              <a:ext cx="190800" cy="78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94480" y="4780440"/>
              <a:ext cx="2632320" cy="69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6044000">
              <a:off x="7394040" y="4203000"/>
              <a:ext cx="1029240" cy="748800"/>
            </a:xfrm>
            <a:custGeom>
              <a:avLst/>
              <a:gdLst>
                <a:gd name="textAreaLeft" fmla="*/ 174600 w 1029240"/>
                <a:gd name="textAreaRight" fmla="*/ 854640 w 1029240"/>
                <a:gd name="textAreaTop" fmla="*/ 127080 h 748800"/>
                <a:gd name="textAreaBottom" fmla="*/ 621720 h 74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147" y="21600"/>
                  </a:lnTo>
                  <a:lnTo>
                    <a:pt x="3453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81200" y="5012640"/>
              <a:ext cx="84600" cy="7848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rot="5400000">
              <a:off x="7934760" y="4398120"/>
              <a:ext cx="821160" cy="403200"/>
            </a:xfrm>
            <a:prstGeom prst="flowChartMagneticDrum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09160" y="4282560"/>
              <a:ext cx="84240" cy="78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49840" y="5008320"/>
              <a:ext cx="0" cy="1054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6045840" y="3971880"/>
              <a:ext cx="198540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 flipH="1" rot="16611600">
              <a:off x="7408440" y="4573800"/>
              <a:ext cx="268200" cy="212040"/>
            </a:xfrm>
            <a:prstGeom prst="parallelogram">
              <a:avLst>
                <a:gd name="adj" fmla="val 31621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67080" y="4109760"/>
              <a:ext cx="86040" cy="906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5400000">
              <a:off x="6274080" y="428076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5400000">
              <a:off x="6339240" y="429912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5400000">
              <a:off x="6260400" y="458460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5400000">
              <a:off x="6325560" y="460296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5400000">
              <a:off x="6251400" y="488016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5400000">
              <a:off x="6316560" y="489816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5400000">
              <a:off x="6992640" y="475344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5400000">
              <a:off x="7057800" y="477180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5400000">
              <a:off x="6979680" y="4428720"/>
              <a:ext cx="231840" cy="7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5400000">
              <a:off x="7044120" y="444672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5400000">
              <a:off x="7006320" y="505728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5400000">
              <a:off x="7071840" y="5075640"/>
              <a:ext cx="10800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5400000">
              <a:off x="7616160" y="4606200"/>
              <a:ext cx="231840" cy="7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5400000">
              <a:off x="7680600" y="4624560"/>
              <a:ext cx="108360" cy="4356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00000">
              <a:off x="7642800" y="490104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5400000">
              <a:off x="7708320" y="491940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5400000">
              <a:off x="7602120" y="429768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7667280" y="431604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78280" y="4642560"/>
              <a:ext cx="151560" cy="716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436200" y="4610160"/>
            <a:ext cx="1267200" cy="1086840"/>
            <a:chOff x="3436200" y="4610160"/>
            <a:chExt cx="1267200" cy="1086840"/>
          </a:xfrm>
        </p:grpSpPr>
        <p:sp>
          <p:nvSpPr>
            <p:cNvPr id="270" name=""/>
            <p:cNvSpPr/>
            <p:nvPr/>
          </p:nvSpPr>
          <p:spPr>
            <a:xfrm flipH="1" rot="16200000">
              <a:off x="3162600" y="4893120"/>
              <a:ext cx="10602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rot="16200000">
              <a:off x="3924360" y="4340880"/>
              <a:ext cx="50976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 rot="16200000">
              <a:off x="3903480" y="4914720"/>
              <a:ext cx="57024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97520" y="493596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82480" y="49543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490120" y="4586400"/>
            <a:ext cx="1267200" cy="1088640"/>
            <a:chOff x="2490120" y="4586400"/>
            <a:chExt cx="1267200" cy="1088640"/>
          </a:xfrm>
        </p:grpSpPr>
        <p:sp>
          <p:nvSpPr>
            <p:cNvPr id="276" name=""/>
            <p:cNvSpPr/>
            <p:nvPr/>
          </p:nvSpPr>
          <p:spPr>
            <a:xfrm flipH="1" rot="16200000">
              <a:off x="2215440" y="4870080"/>
              <a:ext cx="10620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rot="16200000">
              <a:off x="2977920" y="4317480"/>
              <a:ext cx="51048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16200000">
              <a:off x="2957040" y="4892400"/>
              <a:ext cx="57096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151440" y="491292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36400" y="49309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483560" y="4586400"/>
            <a:ext cx="1267200" cy="1088640"/>
            <a:chOff x="1483560" y="4586400"/>
            <a:chExt cx="1267200" cy="1088640"/>
          </a:xfrm>
        </p:grpSpPr>
        <p:sp>
          <p:nvSpPr>
            <p:cNvPr id="282" name=""/>
            <p:cNvSpPr/>
            <p:nvPr/>
          </p:nvSpPr>
          <p:spPr>
            <a:xfrm flipH="1" rot="16200000">
              <a:off x="1208880" y="4870080"/>
              <a:ext cx="10620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rot="16200000">
              <a:off x="1971360" y="4317480"/>
              <a:ext cx="51048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rot="16200000">
              <a:off x="1950480" y="4892400"/>
              <a:ext cx="57096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44880" y="491292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29840" y="49309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7513560" y="554688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lletiz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284880" y="2552400"/>
            <a:ext cx="1920240" cy="1919880"/>
            <a:chOff x="6284880" y="2552400"/>
            <a:chExt cx="1920240" cy="1919880"/>
          </a:xfrm>
        </p:grpSpPr>
        <p:sp>
          <p:nvSpPr>
            <p:cNvPr id="289" name=""/>
            <p:cNvSpPr/>
            <p:nvPr/>
          </p:nvSpPr>
          <p:spPr>
            <a:xfrm flipV="1" rot="18960000">
              <a:off x="6853680" y="3143880"/>
              <a:ext cx="779400" cy="77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 rot="18960000">
              <a:off x="6757920" y="3044520"/>
              <a:ext cx="977040" cy="96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 rot="18960000">
              <a:off x="6660000" y="2940480"/>
              <a:ext cx="1170360" cy="115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 rot="18960000">
              <a:off x="6562440" y="2836440"/>
              <a:ext cx="1364760" cy="135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25680" y="2104920"/>
            <a:ext cx="567000" cy="2367000"/>
          </a:xfrm>
          <a:custGeom>
            <a:avLst/>
            <a:gdLst>
              <a:gd name="textAreaLeft" fmla="*/ 75960 w 567000"/>
              <a:gd name="textAreaRight" fmla="*/ 491040 w 567000"/>
              <a:gd name="textAreaTop" fmla="*/ 414000 h 2367000"/>
              <a:gd name="textAreaBottom" fmla="*/ 1716120 h 236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96440" y="3487680"/>
            <a:ext cx="883440" cy="30708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02360" y="1595520"/>
            <a:ext cx="1116000" cy="520200"/>
          </a:xfrm>
          <a:prstGeom prst="rect">
            <a:avLst/>
          </a:prstGeom>
          <a:solidFill>
            <a:srgbClr val="ff99c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ools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tegrato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043600" y="4998600"/>
            <a:ext cx="498240" cy="46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825320" y="2100240"/>
            <a:ext cx="107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ase/Pall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Aggreg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41240" y="2955960"/>
            <a:ext cx="91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EPC Co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o Ta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786120" y="3724200"/>
            <a:ext cx="1000080" cy="77328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25720" y="3894120"/>
            <a:ext cx="871560" cy="52020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160800" y="3089160"/>
            <a:ext cx="1917360" cy="1917360"/>
            <a:chOff x="3160800" y="3089160"/>
            <a:chExt cx="1917360" cy="1917360"/>
          </a:xfrm>
        </p:grpSpPr>
        <p:sp>
          <p:nvSpPr>
            <p:cNvPr id="302" name=""/>
            <p:cNvSpPr/>
            <p:nvPr/>
          </p:nvSpPr>
          <p:spPr>
            <a:xfrm flipV="1" rot="18960000">
              <a:off x="3729600" y="3679200"/>
              <a:ext cx="777240" cy="77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 rot="18960000">
              <a:off x="3634560" y="3580200"/>
              <a:ext cx="973440" cy="96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 rot="18960000">
              <a:off x="3535920" y="3476880"/>
              <a:ext cx="1167480" cy="11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 rot="18960000">
              <a:off x="3438720" y="3372120"/>
              <a:ext cx="1361160" cy="135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 rot="3348000">
            <a:off x="5432040" y="2757240"/>
            <a:ext cx="404640" cy="1592280"/>
          </a:xfrm>
          <a:prstGeom prst="upArrow">
            <a:avLst>
              <a:gd name="adj1" fmla="val 47870"/>
              <a:gd name="adj2" fmla="val 169116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85440" y="2878200"/>
            <a:ext cx="81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rack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nf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87360" y="3624120"/>
            <a:ext cx="84240" cy="79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0880" y="685800"/>
            <a:ext cx="87631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Information from the tag is posted to 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s at the plant production line.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2120" y="1401840"/>
            <a:ext cx="626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1144440"/>
            <a:ext cx="3380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704880" y="1828800"/>
            <a:ext cx="7840800" cy="3593880"/>
            <a:chOff x="704880" y="1828800"/>
            <a:chExt cx="7840800" cy="3593880"/>
          </a:xfrm>
        </p:grpSpPr>
        <p:sp>
          <p:nvSpPr>
            <p:cNvPr id="313" name=""/>
            <p:cNvSpPr/>
            <p:nvPr/>
          </p:nvSpPr>
          <p:spPr>
            <a:xfrm>
              <a:off x="704880" y="2071440"/>
              <a:ext cx="7840800" cy="3351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70840" y="1860840"/>
              <a:ext cx="564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5" name="aboutthetech_PML" descr=""/>
            <p:cNvPicPr/>
            <p:nvPr/>
          </p:nvPicPr>
          <p:blipFill>
            <a:blip r:embed="rId1"/>
            <a:stretch/>
          </p:blipFill>
          <p:spPr>
            <a:xfrm>
              <a:off x="5104080" y="2374560"/>
              <a:ext cx="3278160" cy="25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4388400" y="3050640"/>
              <a:ext cx="585360" cy="1217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7889f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09840" y="5010120"/>
              <a:ext cx="211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Production Li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38320" y="5002920"/>
              <a:ext cx="224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Internet Data Fi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99280" y="1828800"/>
              <a:ext cx="5650920" cy="27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1" lang="en-US" sz="25000" spc="-1" strike="noStrike">
                  <a:solidFill>
                    <a:srgbClr val="ffffff"/>
                  </a:solidFill>
                  <a:latin typeface="Verdana"/>
                </a:rPr>
                <a:t> </a:t>
              </a: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20" name="aboutthetech_addingcases" descr=""/>
            <p:cNvPicPr/>
            <p:nvPr/>
          </p:nvPicPr>
          <p:blipFill>
            <a:blip r:embed="rId2"/>
            <a:stretch/>
          </p:blipFill>
          <p:spPr>
            <a:xfrm>
              <a:off x="979560" y="2370240"/>
              <a:ext cx="3292920" cy="257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Braggs, James A.</cp:lastModifiedBy>
  <dcterms:modified xsi:type="dcterms:W3CDTF">2004-08-11T13:52:35Z</dcterms:modified>
  <cp:revision>876</cp:revision>
  <dc:subject/>
  <dc:title>IBM Software Group</dc:title>
</cp:coreProperties>
</file>