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7469C-DF46-4249-B3EE-79C730E819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0C6A3-1504-403D-8A59-8CA35F44CB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17776-E878-4DD9-8FF8-6C5506E676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182A2-2836-4CD9-8935-B2BE3E157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4E795-E468-4661-96A1-A0BD14726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99B32-7B31-413C-93E2-D0C2A473B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14803-F6CF-49AF-8E6C-82EE0E04C4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4175-BE7A-41C0-8CA5-475DDAB1A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D1604-DB3E-4EA0-BE70-B9510CE97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20E1E-38B4-488E-9871-91BE26BAB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8E8E6-ABC0-4737-8DD3-0ED749E6E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D6B76-7995-4F77-8DBC-6ECAB8840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5D89-D355-4BE3-B540-6CB1BEBA8A9B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896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Life - Tips and Tricks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58120" y="3009960"/>
            <a:ext cx="100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WHERE cl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ny WHERE clauses can be attached to on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can be used only once in a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WHERE clauses can be used to process multiple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must be preceded by values within parenth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spaces can exist between the keyword and th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PNICKN(ABF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NG cl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ike the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n only be included once in th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ENVELOPE DATA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INTERCHANGE(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TCTLNO(000456789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statement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comments to the PERFORM statement syn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Company ABC translation  &lt;&lt;&lt;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 Company ABC translation  &lt;&lt;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eneric command for executing commands in a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okes the command chaining fe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CESS and RECEIVE AND PROCESS are the only commands that invoke command chai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FILEID(APDATA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RRFILTER vari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lter and eliminate warn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GNORE to report all errors regardless of instructions in the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1-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IGNOR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391760"/>
            <a:ext cx="73486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late data in any format to any othe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 data transformation maps to translate the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FILE(APDATA01) INTYPE(M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AX(X) OUTFILE(APOU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SYNTAX is only used with the TRANSFORM comman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- Application data, E -  EDI data, X - XM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YPE is only used with the TRANSFORM command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Q - MQSeries que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software updates that need to be made in preparation for migrat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for zOS runs on zOS version 1 or later with Transaction Server (CICS) for OS/390 version 1.3 or later, or Transaction Server for zOS version 2.2, DB2 for MVS or OS/390 version 7, MQSeries version 5.3 and XML Toolkit version 1.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objects get migrated go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ll meta data objects (standards, data formats, and maps) get converted and migrated.  Profiles get migrated as do control strings.  Operational data does not get migr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will my Host maps look lik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Host maps will show up in the Send and Receive tabs of WDI Client V3.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ow is migration accomplish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Migration is a set of steps in the installation procedure.  The migration is accomplished via WDI Export and Import facilities.  A conversion flag is used to convert “host” format objects to the common database structure of WDI V3.2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test the migrated objec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, test the translator because the control string was migrated as is from the host platform.  A recompilation of the map should yield a different control string - but provide the sam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new features will be availabl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V3.2 offers any-to-any mapping and more visible ways of viewing and maintaining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s VSAM support i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VSAM is not supported.  The import process moves the data to DB2 tables in WDI V3.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happens if I do not migrate my m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ou do not want to execute Send/Receive maps in WDI V3.2, and that you want to rewrite your maps using the new any-to-any mapper.  A recommended approach is that you consider migration and then rewrite the maps at your conveni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run XML translation in CICS o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DTC maps run in CIC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Send/Receive XML maps run in C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In WDI V3.2 the XML preprocessor is supported in CICS.  Also data transformation maps can be used to translate XML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JCL changes for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The any-to-any translator uses the TRANSFORM verb of the PERFORM command.  The XMLDICT and XMLDTDS keywords point to partitioned datasets (PDS) of XML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changes to the DI translator API between DI V3.1 and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    Answer: No. The interface to EDIFFUT and EDIFFUS is the s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change any of the PERFORM comman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No. There are some additional options to existing commands and there is a new TRANSFORM command you may want to consid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inter operate migrated WDI V3.2, WDI V3.2 zOS, with  a WDI V3.2 AIX/Windows or can I develop on AIX and deploy on zOS, export from one to the 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bsolutely. In addition, a single WDI Client allows a window into all systems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Command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File Definition (INPUTQ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ile Definition (PRT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 dat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Language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from DI V3.1 to WDI V3.2 - Questions and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Design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298160"/>
            <a:ext cx="734868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in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PUTQ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out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TFILE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mmand chain that will connect the input an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ERFORM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use PERFORM process to initiate command chaini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MQ queue (INPUTQ) with triggering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INPUTQ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INPUTQ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AND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FILE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FMTID(ADF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TEST(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Common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f needed, define path to other files (Tracking, Exception, Work File, Report File, Query Fi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EXC\EXCEPT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WRK\WORK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flat file (PRTFILE) under “Network Profiles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RTFILE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PRTFILE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CLASS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ID(PRTF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Input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Chain Data Flow Diagram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90440" y="944640"/>
          <a:ext cx="674712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944640"/>
                    <a:ext cx="674712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PERFORM stat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is handled and process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syntax is handl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ubsequent PERFORM statement will not be process, if a non-zero condition occurred in the prior PERFORM state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9-09T17:35:21Z</cp:lastPrinted>
  <dcterms:modified xsi:type="dcterms:W3CDTF">2003-09-17T17:52:03Z</dcterms:modified>
  <cp:revision>912</cp:revision>
  <dc:subject/>
  <dc:title>IBM Software Group</dc:title>
</cp:coreProperties>
</file>