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9ABDF-680C-4460-A8AA-F1679D7E04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E0CF2-C50A-447A-9BCC-20DE5877DC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59CD5-A96D-4CB2-95D3-C8D5506512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59DAB-D312-4290-84D3-076F0E1384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B2720-BF12-4B9A-A777-722D033E87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D53DF-DD8A-4277-BAD0-18D48B775E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4E35E-6E6B-466B-A59D-AACAE992F2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D2CBE-5D48-45A4-8A52-3D3731173B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47D9A-C7F0-43E7-962A-1328571A60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03AE8-3067-408C-88B1-9CC9137686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2C1E8-214C-4B2B-8F8B-D3354D2CAF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F249C-60D0-4C20-AFEB-3BC65090D3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4DC26-DBE0-4E48-A218-C1B39A265F53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2240" y="2084040"/>
            <a:ext cx="5587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 </a:t>
            </a:r>
            <a:br>
              <a:rPr sz="24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aring Into the Future</a:t>
            </a:r>
            <a:br>
              <a:rPr sz="18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IP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General Discussion</a:t>
            </a: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ession will be a general discussion on HIPAA and how you are implementing your HIPAA transa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a special case, lets talk about it and help you find an answ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s for others affected by HIPAA, just ask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dhillary</cp:lastModifiedBy>
  <dcterms:modified xsi:type="dcterms:W3CDTF">2003-09-23T22:24:15Z</dcterms:modified>
  <cp:revision>856</cp:revision>
  <dc:subject/>
  <dc:title>IBM Software Group</dc:title>
</cp:coreProperties>
</file>