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54AB6-32D1-4538-B2D9-DACF86549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F060-5645-4FDC-BABE-176730F91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D6F6-9151-4DE2-8025-461AA5D7C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2004-165E-454D-9973-CCB160270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EAC5-1A4F-45C5-B6DA-C1D054763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B6D9-FF41-43FA-8E63-672EF54E8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F975-6DA8-42F2-9163-CB00073EF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05ED-BC66-4D74-BF76-E978E3C9F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76FD-64FD-4106-A41A-4A8EBA5A2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D835-5C45-4A5F-8833-DBCEC94BF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09F8-AFE7-4693-956D-1C184D004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DEB69-9CA4-4A0A-80CD-7B2C7B0C4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5755-3292-4F62-8B4C-F3D96BB6E4F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Integration Competency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DI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240" y="1892160"/>
            <a:ext cx="5587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from the Flight Deck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uck Fer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jo Commun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46640" y="2419200"/>
            <a:ext cx="1009800" cy="128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46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Ollie Ollie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nte Pythons Flying Trans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-Data Movers and Shak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Global Data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Data Exchang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6440" y="1379520"/>
            <a:ext cx="595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35971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0200" y="1579680"/>
            <a:ext cx="3598920" cy="325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75160" y="4862520"/>
            <a:ext cx="30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Compre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 with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62880" y="4862520"/>
            <a:ext cx="33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anded data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Less 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at to keep an eye 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1276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Security/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9680" y="3121200"/>
            <a:ext cx="261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Question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Burlington Northern Santa Fe Railway Company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e of the largest railroad network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,000 Route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ing 28 States and two Canadian Prov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vers the western two thirds of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more Intermodal equipment then any other Railroa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's largest grain-hauling rail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ls enough coal to generate more than 10 percent of the electricity produced in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s approximately 38,000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approximately a million transactions every 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WebServic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2280" y="112392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256392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7720" y="257796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2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3" name=""/>
          <p:cNvCxnSpPr>
            <a:stCxn id="148" idx="3"/>
            <a:endCxn id="150" idx="1"/>
          </p:cNvCxnSpPr>
          <p:nvPr/>
        </p:nvCxnSpPr>
        <p:spPr>
          <a:xfrm>
            <a:off x="4132440" y="291888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5784840" y="2918880"/>
            <a:ext cx="519840" cy="900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5" name=""/>
          <p:cNvCxnSpPr>
            <a:stCxn id="146" idx="3"/>
            <a:endCxn id="148" idx="0"/>
          </p:cNvCxnSpPr>
          <p:nvPr/>
        </p:nvCxnSpPr>
        <p:spPr>
          <a:xfrm flipH="1">
            <a:off x="3564720" y="1856880"/>
            <a:ext cx="10440" cy="685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56" name=""/>
          <p:cNvSpPr/>
          <p:nvPr/>
        </p:nvSpPr>
        <p:spPr>
          <a:xfrm>
            <a:off x="3032280" y="369720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513720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6588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7532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2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3" name=""/>
          <p:cNvCxnSpPr>
            <a:stCxn id="158" idx="3"/>
            <a:endCxn id="160" idx="1"/>
          </p:cNvCxnSpPr>
          <p:nvPr/>
        </p:nvCxnSpPr>
        <p:spPr>
          <a:xfrm>
            <a:off x="4132440" y="549252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4" name=""/>
          <p:cNvCxnSpPr>
            <a:stCxn id="160" idx="3"/>
            <a:endCxn id="159" idx="1"/>
          </p:cNvCxnSpPr>
          <p:nvPr/>
        </p:nvCxnSpPr>
        <p:spPr>
          <a:xfrm>
            <a:off x="5780160" y="5492520"/>
            <a:ext cx="56736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5" name=""/>
          <p:cNvCxnSpPr>
            <a:stCxn id="156" idx="3"/>
            <a:endCxn id="158" idx="0"/>
          </p:cNvCxnSpPr>
          <p:nvPr/>
        </p:nvCxnSpPr>
        <p:spPr>
          <a:xfrm flipH="1">
            <a:off x="3564720" y="4430880"/>
            <a:ext cx="10440" cy="68472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66" name=""/>
          <p:cNvSpPr/>
          <p:nvPr/>
        </p:nvSpPr>
        <p:spPr>
          <a:xfrm>
            <a:off x="6365880" y="3505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4351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1"/>
            <a:endCxn id="160" idx="3"/>
          </p:cNvCxnSpPr>
          <p:nvPr/>
        </p:nvCxnSpPr>
        <p:spPr>
          <a:xfrm flipH="1">
            <a:off x="5779800" y="3854160"/>
            <a:ext cx="567360" cy="1639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9" name=""/>
          <p:cNvCxnSpPr>
            <a:stCxn id="167" idx="1"/>
            <a:endCxn id="160" idx="3"/>
          </p:cNvCxnSpPr>
          <p:nvPr/>
        </p:nvCxnSpPr>
        <p:spPr>
          <a:xfrm flipH="1">
            <a:off x="5779800" y="4700160"/>
            <a:ext cx="567360" cy="793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70" name=""/>
          <p:cNvSpPr/>
          <p:nvPr/>
        </p:nvSpPr>
        <p:spPr>
          <a:xfrm>
            <a:off x="7410240" y="3584520"/>
            <a:ext cx="180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Ti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Maintain Conn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XML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6320" y="1201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400" y="37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Web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12920" y="1584360"/>
            <a:ext cx="190044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12920" y="1932120"/>
            <a:ext cx="4224600" cy="1473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12920" y="2282760"/>
            <a:ext cx="2187720" cy="112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12920" y="2552760"/>
            <a:ext cx="3090960" cy="85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12920" y="2822040"/>
            <a:ext cx="4224600" cy="5828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405240"/>
            <a:ext cx="2187720" cy="1000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405240"/>
            <a:ext cx="2803680" cy="906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1960" y="2822040"/>
            <a:ext cx="2995560" cy="2124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1880" y="3502080"/>
          <a:ext cx="845028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502080"/>
                    <a:ext cx="8450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880" y="1044720"/>
          <a:ext cx="81043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044720"/>
                    <a:ext cx="8104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11920" y="3233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Van F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280" y="860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racter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2430360"/>
            <a:ext cx="7348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G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l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C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TRAI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38280" y="1325520"/>
            <a:ext cx="6451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26T15:51:16Z</dcterms:modified>
  <cp:revision>881</cp:revision>
  <dc:subject/>
  <dc:title>IBM Software Group</dc:title>
</cp:coreProperties>
</file>