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9372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929040" y="-36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63520" y="690120"/>
            <a:ext cx="4610160" cy="34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0" y="8758080"/>
            <a:ext cx="300672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929040" y="8758080"/>
            <a:ext cx="300672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BC15542-7843-41B6-9084-5B10CC9D3B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Transactions: 830 in, 870 out, 850 out, 860 out, 855 in, 856 in, 810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Transactions: 830 in, 870 out, 850 out, 860 out, 855 in, 856 in, 810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o implement EDI using CrossWorlds TPI/EDI DH but it was cumbersome becau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ransaction logging from the package (though TPI will log the raw messag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997 generation for inbound messages. Must code this by h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 DH is not EDI specification aware. Must build the structure of the messages, the business objects, using SpecBuil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validation of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ts of BOs, one for each segment. Lots of Maps one for each segment. A very cluttered ICS. Makes management difficu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the Hub and Spoke con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adaptor (adap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ping layer in the ada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ss the GBO and being able to send the same data to say the MES as well as the ERP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the same integ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the Hub and Spoke con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adaptor (adap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ping layer in the ada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ss the GBO and being able to send the same data to say the MES as well as the ERP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the same integ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Transactions: 830 in, 870 out, 850 out, 860 out, 855 in, 856 in, 810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work of the EDI Protocol collab is now done (much better) in the WDI compo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Q Series 5.2 running on the WBI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Q Series 5.3 running on the WDI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ue naming convention is from the perspective of WDI. So EDI_IN is EDI message inbound to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7FE27-5029-4E9A-87C5-F942CF4921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A8951-A53F-4CC5-97C9-C02FE3CA6E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06B60-C1E9-4FE0-AF55-A4F12E2CF9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10DD5-E5C0-44FD-9BF4-DD79FF9B9A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74AB7-5D1F-49D0-91D8-D68CD757CD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44B0E-B94D-49E1-8F10-4B47B4CA7E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FAE49-6607-4CA3-ABA5-BDF8222887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EDD20-99E4-4C7E-B630-319449608D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CAC8D-45F9-4ACA-A4FF-E591191E58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6A3DA-C331-40D5-A197-2274DD8302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DF5F1-A8DB-460D-9CC9-3498F60186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26C20-A114-4ECE-B25B-3EC64E18C5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ase Study: Implementing WDI with WBI at Quantu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0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  <p:sp>
        <p:nvSpPr>
          <p:cNvPr id="29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C5F1F-7CAE-45FB-A46C-BB24A3620ACA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87360" y="2084040"/>
            <a:ext cx="6548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 Study: Integrating WDI wi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BI at Quantu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poration</a:t>
            </a:r>
            <a:br>
              <a:rPr sz="2000"/>
            </a:br>
            <a:br>
              <a:rPr sz="20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ark Lutz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Hal Render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867280" y="4038480"/>
            <a:ext cx="3113280" cy="4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- Hardwar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arate Development, Stage and Production environ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Production and Stage environment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nvironment is a Veritas clu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Sun E4500 nodes in each clu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node has 8 processors, 4 gigabytes of physical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Development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Sun E4500 with 4 processors and 4 gigabytes of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Production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Compaq DL360s with 1.2 Ghz processor and 1 gigabyte of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Development and Stage environments share the same hardware as produ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– Software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Server – WDI 3.2 SP6 for Windows 2000, standard set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Server – ICS 4.1.0.2 using Oracle 8.1.7 for repository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Series – Version 5.2 on the WBI side and 5.3 on the WDI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prise Application Integration – Various WBI adap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es Oracle Applications, Vantive, Clarify, and oth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VAN Integration – Custom Perl scripts to encrypt/decrypt messages  and transfer them to/from the V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 scripts used because of the need to route messages between legacy applications, TPI, and WD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603360" y="1397160"/>
            <a:ext cx="7971840" cy="4394160"/>
            <a:chOff x="603360" y="1397160"/>
            <a:chExt cx="7971840" cy="4394160"/>
          </a:xfrm>
        </p:grpSpPr>
        <p:sp>
          <p:nvSpPr>
            <p:cNvPr id="261" name=""/>
            <p:cNvSpPr/>
            <p:nvPr/>
          </p:nvSpPr>
          <p:spPr>
            <a:xfrm>
              <a:off x="603360" y="1397160"/>
              <a:ext cx="14364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603160" y="1397160"/>
              <a:ext cx="23778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cwprod.queue.manager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557760" y="1397160"/>
              <a:ext cx="201744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QM_wdi1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4978080" y="2171880"/>
              <a:ext cx="1531440" cy="3133800"/>
              <a:chOff x="4978080" y="2171880"/>
              <a:chExt cx="1531440" cy="3133800"/>
            </a:xfrm>
          </p:grpSpPr>
          <p:sp>
            <p:nvSpPr>
              <p:cNvPr id="265" name=""/>
              <p:cNvSpPr/>
              <p:nvPr/>
            </p:nvSpPr>
            <p:spPr>
              <a:xfrm>
                <a:off x="4978080" y="2171880"/>
                <a:ext cx="1531440" cy="630000"/>
              </a:xfrm>
              <a:prstGeom prst="rightArrow">
                <a:avLst>
                  <a:gd name="adj1" fmla="val 50000"/>
                  <a:gd name="adj2" fmla="val 607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978080" y="4675320"/>
                <a:ext cx="1531440" cy="630360"/>
              </a:xfrm>
              <a:prstGeom prst="rightArrow">
                <a:avLst>
                  <a:gd name="adj1" fmla="val 50000"/>
                  <a:gd name="adj2" fmla="val 60737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989960" y="2897280"/>
                <a:ext cx="1505880" cy="592200"/>
              </a:xfrm>
              <a:prstGeom prst="leftArrow">
                <a:avLst>
                  <a:gd name="adj1" fmla="val 50000"/>
                  <a:gd name="adj2" fmla="val 635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989960" y="3940200"/>
                <a:ext cx="1505880" cy="628560"/>
              </a:xfrm>
              <a:prstGeom prst="leftArrow">
                <a:avLst>
                  <a:gd name="adj1" fmla="val 50000"/>
                  <a:gd name="adj2" fmla="val 59894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>
              <a:off x="1101600" y="2143440"/>
              <a:ext cx="1763280" cy="619200"/>
            </a:xfrm>
            <a:prstGeom prst="rightArrow">
              <a:avLst>
                <a:gd name="adj1" fmla="val 50000"/>
                <a:gd name="adj2" fmla="val 7119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091880" y="2851560"/>
              <a:ext cx="1750680" cy="591840"/>
            </a:xfrm>
            <a:prstGeom prst="leftArrow">
              <a:avLst>
                <a:gd name="adj1" fmla="val 50000"/>
                <a:gd name="adj2" fmla="val 73951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35080" y="229896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etch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958840" y="299268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nd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773080" y="3775320"/>
              <a:ext cx="776160" cy="1724040"/>
            </a:xfrm>
            <a:custGeom>
              <a:avLst/>
              <a:gdLst>
                <a:gd name="textAreaLeft" fmla="*/ 37800 w 776160"/>
                <a:gd name="textAreaRight" fmla="*/ 738360 w 776160"/>
                <a:gd name="textAreaTop" fmla="*/ 37800 h 1724040"/>
                <a:gd name="textAreaBottom" fmla="*/ 1686240 h 1724040"/>
              </a:gdLst>
              <a:ahLst/>
              <a:rect l="textAreaLeft" t="textAreaTop" r="textAreaRight" b="textAreaBottom"/>
              <a:pathLst>
                <a:path w="21600" h="47967">
                  <a:moveTo>
                    <a:pt x="3600" y="0"/>
                  </a:moveTo>
                  <a:arcTo wR="3600" hR="3600" stAng="16200000" swAng="-5400000"/>
                  <a:lnTo>
                    <a:pt x="0" y="44367"/>
                  </a:lnTo>
                  <a:arcTo wR="3600" hR="3600" stAng="10800000" swAng="-5400000"/>
                  <a:lnTo>
                    <a:pt x="18000" y="479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 IC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797520" y="2294280"/>
              <a:ext cx="1604520" cy="2998800"/>
            </a:xfrm>
            <a:custGeom>
              <a:avLst/>
              <a:gdLst>
                <a:gd name="textAreaLeft" fmla="*/ 78120 w 1604520"/>
                <a:gd name="textAreaRight" fmla="*/ 1526400 w 1604520"/>
                <a:gd name="textAreaTop" fmla="*/ 78120 h 2998800"/>
                <a:gd name="textAreaBottom" fmla="*/ 2920680 h 2998800"/>
              </a:gdLst>
              <a:ahLst/>
              <a:rect l="textAreaLeft" t="textAreaTop" r="textAreaRight" b="textAreaBottom"/>
              <a:pathLst>
                <a:path w="21600" h="40366">
                  <a:moveTo>
                    <a:pt x="3600" y="0"/>
                  </a:moveTo>
                  <a:arcTo wR="3600" hR="3600" stAng="16200000" swAng="-5400000"/>
                  <a:lnTo>
                    <a:pt x="0" y="36766"/>
                  </a:lnTo>
                  <a:arcTo wR="3600" hR="3600" stAng="10800000" swAng="-5400000"/>
                  <a:lnTo>
                    <a:pt x="18000" y="403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73440" y="3888000"/>
              <a:ext cx="1193400" cy="1424160"/>
            </a:xfrm>
            <a:custGeom>
              <a:avLst/>
              <a:gdLst>
                <a:gd name="textAreaLeft" fmla="*/ 57960 w 1193400"/>
                <a:gd name="textAreaRight" fmla="*/ 1135440 w 1193400"/>
                <a:gd name="textAreaTop" fmla="*/ 57960 h 1424160"/>
                <a:gd name="textAreaBottom" fmla="*/ 1366200 h 1424160"/>
              </a:gdLst>
              <a:ahLst/>
              <a:rect l="textAreaLeft" t="textAreaTop" r="textAreaRight" b="textAreaBottom"/>
              <a:pathLst>
                <a:path w="21600" h="25775">
                  <a:moveTo>
                    <a:pt x="3600" y="0"/>
                  </a:moveTo>
                  <a:arcTo wR="3600" hR="3600" stAng="16200000" swAng="-5400000"/>
                  <a:lnTo>
                    <a:pt x="0" y="22175"/>
                  </a:lnTo>
                  <a:arcTo wR="3600" hR="3600" stAng="10800000" swAng="-5400000"/>
                  <a:lnTo>
                    <a:pt x="18000" y="257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Q Adap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- Architectur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unctional Allocation in the Architecture - WDI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bound EDI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ing and logging reception of EDI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idating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ting/sending Functional Acknowledg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EDI messages to XML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eneric business objec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GBO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bound EDI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XML GBO’s to E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eloping EDI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ing/logging EDI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ging receipt of Functional Acknowledgement in 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 Separate EDI concerns from Business Process conc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unctional Allocation in the Architecture - WBI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bound EDI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idate received data, possibly through look-ups to enterprise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l-in or modify data as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XML GBO’s to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pplication-specific business objec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ASBO’s) and update back-end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rt EDI data to human-readable form for notification or archi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bound EDI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ct triggering events, create ASBO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ASBO’s to XML GBO’s for proces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idate data in GBO’s, filling-in or modifying as needed through look-ups to enterprise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603360" y="1397160"/>
            <a:ext cx="7971840" cy="4394160"/>
            <a:chOff x="603360" y="1397160"/>
            <a:chExt cx="7971840" cy="4394160"/>
          </a:xfrm>
        </p:grpSpPr>
        <p:sp>
          <p:nvSpPr>
            <p:cNvPr id="282" name=""/>
            <p:cNvSpPr/>
            <p:nvPr/>
          </p:nvSpPr>
          <p:spPr>
            <a:xfrm>
              <a:off x="603360" y="1397160"/>
              <a:ext cx="14364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603160" y="1397160"/>
              <a:ext cx="23778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cwprod.queue.manager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557760" y="1397160"/>
              <a:ext cx="201744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QM_wdi1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4978080" y="2171880"/>
              <a:ext cx="1531440" cy="3133800"/>
              <a:chOff x="4978080" y="2171880"/>
              <a:chExt cx="1531440" cy="3133800"/>
            </a:xfrm>
          </p:grpSpPr>
          <p:sp>
            <p:nvSpPr>
              <p:cNvPr id="286" name=""/>
              <p:cNvSpPr/>
              <p:nvPr/>
            </p:nvSpPr>
            <p:spPr>
              <a:xfrm>
                <a:off x="4978080" y="2171880"/>
                <a:ext cx="1531440" cy="630000"/>
              </a:xfrm>
              <a:prstGeom prst="rightArrow">
                <a:avLst>
                  <a:gd name="adj1" fmla="val 50000"/>
                  <a:gd name="adj2" fmla="val 607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978080" y="4675320"/>
                <a:ext cx="1531440" cy="630360"/>
              </a:xfrm>
              <a:prstGeom prst="rightArrow">
                <a:avLst>
                  <a:gd name="adj1" fmla="val 50000"/>
                  <a:gd name="adj2" fmla="val 60737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989960" y="2897280"/>
                <a:ext cx="1505880" cy="592200"/>
              </a:xfrm>
              <a:prstGeom prst="leftArrow">
                <a:avLst>
                  <a:gd name="adj1" fmla="val 50000"/>
                  <a:gd name="adj2" fmla="val 635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989960" y="3940200"/>
                <a:ext cx="1505880" cy="628560"/>
              </a:xfrm>
              <a:prstGeom prst="leftArrow">
                <a:avLst>
                  <a:gd name="adj1" fmla="val 50000"/>
                  <a:gd name="adj2" fmla="val 59894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1101600" y="2143440"/>
              <a:ext cx="1763280" cy="619200"/>
            </a:xfrm>
            <a:prstGeom prst="rightArrow">
              <a:avLst>
                <a:gd name="adj1" fmla="val 50000"/>
                <a:gd name="adj2" fmla="val 7119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091880" y="2851560"/>
              <a:ext cx="1750680" cy="591840"/>
            </a:xfrm>
            <a:prstGeom prst="leftArrow">
              <a:avLst>
                <a:gd name="adj1" fmla="val 50000"/>
                <a:gd name="adj2" fmla="val 73951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935080" y="229896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etch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58840" y="299268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nd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773080" y="3775320"/>
              <a:ext cx="776160" cy="1724040"/>
            </a:xfrm>
            <a:custGeom>
              <a:avLst/>
              <a:gdLst>
                <a:gd name="textAreaLeft" fmla="*/ 37800 w 776160"/>
                <a:gd name="textAreaRight" fmla="*/ 738360 w 776160"/>
                <a:gd name="textAreaTop" fmla="*/ 37800 h 1724040"/>
                <a:gd name="textAreaBottom" fmla="*/ 1686240 h 1724040"/>
              </a:gdLst>
              <a:ahLst/>
              <a:rect l="textAreaLeft" t="textAreaTop" r="textAreaRight" b="textAreaBottom"/>
              <a:pathLst>
                <a:path w="21600" h="47967">
                  <a:moveTo>
                    <a:pt x="3600" y="0"/>
                  </a:moveTo>
                  <a:arcTo wR="3600" hR="3600" stAng="16200000" swAng="-5400000"/>
                  <a:lnTo>
                    <a:pt x="0" y="44367"/>
                  </a:lnTo>
                  <a:arcTo wR="3600" hR="3600" stAng="10800000" swAng="-5400000"/>
                  <a:lnTo>
                    <a:pt x="18000" y="479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 IC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797520" y="2294280"/>
              <a:ext cx="1604520" cy="2998800"/>
            </a:xfrm>
            <a:custGeom>
              <a:avLst/>
              <a:gdLst>
                <a:gd name="textAreaLeft" fmla="*/ 78120 w 1604520"/>
                <a:gd name="textAreaRight" fmla="*/ 1526400 w 1604520"/>
                <a:gd name="textAreaTop" fmla="*/ 78120 h 2998800"/>
                <a:gd name="textAreaBottom" fmla="*/ 2920680 h 2998800"/>
              </a:gdLst>
              <a:ahLst/>
              <a:rect l="textAreaLeft" t="textAreaTop" r="textAreaRight" b="textAreaBottom"/>
              <a:pathLst>
                <a:path w="21600" h="40366">
                  <a:moveTo>
                    <a:pt x="3600" y="0"/>
                  </a:moveTo>
                  <a:arcTo wR="3600" hR="3600" stAng="16200000" swAng="-5400000"/>
                  <a:lnTo>
                    <a:pt x="0" y="36766"/>
                  </a:lnTo>
                  <a:arcTo wR="3600" hR="3600" stAng="10800000" swAng="-5400000"/>
                  <a:lnTo>
                    <a:pt x="18000" y="403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673440" y="3888000"/>
              <a:ext cx="1193400" cy="1424160"/>
            </a:xfrm>
            <a:custGeom>
              <a:avLst/>
              <a:gdLst>
                <a:gd name="textAreaLeft" fmla="*/ 57960 w 1193400"/>
                <a:gd name="textAreaRight" fmla="*/ 1135440 w 1193400"/>
                <a:gd name="textAreaTop" fmla="*/ 57960 h 1424160"/>
                <a:gd name="textAreaBottom" fmla="*/ 1366200 h 1424160"/>
              </a:gdLst>
              <a:ahLst/>
              <a:rect l="textAreaLeft" t="textAreaTop" r="textAreaRight" b="textAreaBottom"/>
              <a:pathLst>
                <a:path w="21600" h="25775">
                  <a:moveTo>
                    <a:pt x="3600" y="0"/>
                  </a:moveTo>
                  <a:arcTo wR="3600" hR="3600" stAng="16200000" swAng="-5400000"/>
                  <a:lnTo>
                    <a:pt x="0" y="22175"/>
                  </a:lnTo>
                  <a:arcTo wR="3600" hR="3600" stAng="10800000" swAng="-5400000"/>
                  <a:lnTo>
                    <a:pt x="18000" y="257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Q adap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xecution Model - Inbou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43120" y="1930320"/>
            <a:ext cx="86328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20920" y="197316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362560" y="203364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278840" y="2482920"/>
            <a:ext cx="86328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6684840" y="3506760"/>
            <a:ext cx="1811160" cy="914400"/>
            <a:chOff x="6684840" y="3506760"/>
            <a:chExt cx="1811160" cy="914400"/>
          </a:xfrm>
        </p:grpSpPr>
        <p:sp>
          <p:nvSpPr>
            <p:cNvPr id="303" name=""/>
            <p:cNvSpPr/>
            <p:nvPr/>
          </p:nvSpPr>
          <p:spPr>
            <a:xfrm>
              <a:off x="6684840" y="350676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XM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32720" y="3517920"/>
              <a:ext cx="863280" cy="903240"/>
            </a:xfrm>
            <a:prstGeom prst="foldedCorner">
              <a:avLst>
                <a:gd name="adj" fmla="val 28310"/>
              </a:avLst>
            </a:prstGeom>
            <a:solidFill>
              <a:srgbClr val="2db6b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5348160" y="2776680"/>
            <a:ext cx="863640" cy="1996560"/>
            <a:chOff x="5348160" y="2776680"/>
            <a:chExt cx="863640" cy="1996560"/>
          </a:xfrm>
        </p:grpSpPr>
        <p:sp>
          <p:nvSpPr>
            <p:cNvPr id="306" name=""/>
            <p:cNvSpPr/>
            <p:nvPr/>
          </p:nvSpPr>
          <p:spPr>
            <a:xfrm>
              <a:off x="5348160" y="387000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XM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348160" y="2776680"/>
              <a:ext cx="863640" cy="902880"/>
            </a:xfrm>
            <a:prstGeom prst="foldedCorner">
              <a:avLst>
                <a:gd name="adj" fmla="val 28310"/>
              </a:avLst>
            </a:prstGeom>
            <a:solidFill>
              <a:srgbClr val="2db6b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3395520" y="2801880"/>
            <a:ext cx="1352520" cy="2049480"/>
            <a:chOff x="3395520" y="2801880"/>
            <a:chExt cx="1352520" cy="2049480"/>
          </a:xfrm>
        </p:grpSpPr>
        <p:sp>
          <p:nvSpPr>
            <p:cNvPr id="309" name=""/>
            <p:cNvSpPr/>
            <p:nvPr/>
          </p:nvSpPr>
          <p:spPr>
            <a:xfrm>
              <a:off x="3884400" y="394812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XM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395520" y="280188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2db6b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841320" y="3032280"/>
            <a:ext cx="2643120" cy="1938240"/>
            <a:chOff x="841320" y="3032280"/>
            <a:chExt cx="2643120" cy="1938240"/>
          </a:xfrm>
        </p:grpSpPr>
        <p:sp>
          <p:nvSpPr>
            <p:cNvPr id="312" name=""/>
            <p:cNvSpPr/>
            <p:nvPr/>
          </p:nvSpPr>
          <p:spPr>
            <a:xfrm>
              <a:off x="841320" y="303228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2db6b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620800" y="406728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B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8" dur="1" fill="hold"/>
                                  <p:tgtEl>
                                    <p:spTgt spid="3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xecution Model – Inbou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ript downloads EDI messages from VAN and sends them to W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DI maps EDI to XML GBO (Generic Business Objec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DI sends GBO to WBI via MQSe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MQSeries adaptor picks up GBO and sends to subscribing collaborations (executable business processes) on WBI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collaboration validates and fills in data as needed, and sends GBO to destination adap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ors map GBO to appropriate ASBO (Application-Specific Business Obje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ors send ASBO to destination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"/>
          <p:cNvGrpSpPr/>
          <p:nvPr/>
        </p:nvGrpSpPr>
        <p:grpSpPr>
          <a:xfrm>
            <a:off x="603360" y="1397160"/>
            <a:ext cx="7971840" cy="4394160"/>
            <a:chOff x="603360" y="1397160"/>
            <a:chExt cx="7971840" cy="4394160"/>
          </a:xfrm>
        </p:grpSpPr>
        <p:sp>
          <p:nvSpPr>
            <p:cNvPr id="317" name=""/>
            <p:cNvSpPr/>
            <p:nvPr/>
          </p:nvSpPr>
          <p:spPr>
            <a:xfrm>
              <a:off x="603360" y="1397160"/>
              <a:ext cx="14364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603160" y="1397160"/>
              <a:ext cx="23778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cwprod.queue.manager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557760" y="1397160"/>
              <a:ext cx="201744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QM_wdi1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978080" y="2171880"/>
              <a:ext cx="1531440" cy="3133800"/>
              <a:chOff x="4978080" y="2171880"/>
              <a:chExt cx="1531440" cy="3133800"/>
            </a:xfrm>
          </p:grpSpPr>
          <p:sp>
            <p:nvSpPr>
              <p:cNvPr id="321" name=""/>
              <p:cNvSpPr/>
              <p:nvPr/>
            </p:nvSpPr>
            <p:spPr>
              <a:xfrm>
                <a:off x="4978080" y="2171880"/>
                <a:ext cx="1531440" cy="630000"/>
              </a:xfrm>
              <a:prstGeom prst="rightArrow">
                <a:avLst>
                  <a:gd name="adj1" fmla="val 50000"/>
                  <a:gd name="adj2" fmla="val 607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978080" y="4675320"/>
                <a:ext cx="1531440" cy="630360"/>
              </a:xfrm>
              <a:prstGeom prst="rightArrow">
                <a:avLst>
                  <a:gd name="adj1" fmla="val 50000"/>
                  <a:gd name="adj2" fmla="val 60737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989960" y="2897280"/>
                <a:ext cx="1505880" cy="592200"/>
              </a:xfrm>
              <a:prstGeom prst="leftArrow">
                <a:avLst>
                  <a:gd name="adj1" fmla="val 50000"/>
                  <a:gd name="adj2" fmla="val 635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989960" y="3940200"/>
                <a:ext cx="1505880" cy="628560"/>
              </a:xfrm>
              <a:prstGeom prst="leftArrow">
                <a:avLst>
                  <a:gd name="adj1" fmla="val 50000"/>
                  <a:gd name="adj2" fmla="val 59894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5" name=""/>
            <p:cNvSpPr/>
            <p:nvPr/>
          </p:nvSpPr>
          <p:spPr>
            <a:xfrm>
              <a:off x="1101600" y="2143440"/>
              <a:ext cx="1763280" cy="619200"/>
            </a:xfrm>
            <a:prstGeom prst="rightArrow">
              <a:avLst>
                <a:gd name="adj1" fmla="val 50000"/>
                <a:gd name="adj2" fmla="val 7119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091880" y="2851560"/>
              <a:ext cx="1750680" cy="591840"/>
            </a:xfrm>
            <a:prstGeom prst="leftArrow">
              <a:avLst>
                <a:gd name="adj1" fmla="val 50000"/>
                <a:gd name="adj2" fmla="val 73951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935080" y="229896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etch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958840" y="299268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nd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3080" y="3775320"/>
              <a:ext cx="776160" cy="1724040"/>
            </a:xfrm>
            <a:custGeom>
              <a:avLst/>
              <a:gdLst>
                <a:gd name="textAreaLeft" fmla="*/ 37800 w 776160"/>
                <a:gd name="textAreaRight" fmla="*/ 738360 w 776160"/>
                <a:gd name="textAreaTop" fmla="*/ 37800 h 1724040"/>
                <a:gd name="textAreaBottom" fmla="*/ 1686240 h 1724040"/>
              </a:gdLst>
              <a:ahLst/>
              <a:rect l="textAreaLeft" t="textAreaTop" r="textAreaRight" b="textAreaBottom"/>
              <a:pathLst>
                <a:path w="21600" h="47967">
                  <a:moveTo>
                    <a:pt x="3600" y="0"/>
                  </a:moveTo>
                  <a:arcTo wR="3600" hR="3600" stAng="16200000" swAng="-5400000"/>
                  <a:lnTo>
                    <a:pt x="0" y="44367"/>
                  </a:lnTo>
                  <a:arcTo wR="3600" hR="3600" stAng="10800000" swAng="-5400000"/>
                  <a:lnTo>
                    <a:pt x="18000" y="479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 IC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797520" y="2294280"/>
              <a:ext cx="1604520" cy="2998800"/>
            </a:xfrm>
            <a:custGeom>
              <a:avLst/>
              <a:gdLst>
                <a:gd name="textAreaLeft" fmla="*/ 78120 w 1604520"/>
                <a:gd name="textAreaRight" fmla="*/ 1526400 w 1604520"/>
                <a:gd name="textAreaTop" fmla="*/ 78120 h 2998800"/>
                <a:gd name="textAreaBottom" fmla="*/ 2920680 h 2998800"/>
              </a:gdLst>
              <a:ahLst/>
              <a:rect l="textAreaLeft" t="textAreaTop" r="textAreaRight" b="textAreaBottom"/>
              <a:pathLst>
                <a:path w="21600" h="40366">
                  <a:moveTo>
                    <a:pt x="3600" y="0"/>
                  </a:moveTo>
                  <a:arcTo wR="3600" hR="3600" stAng="16200000" swAng="-5400000"/>
                  <a:lnTo>
                    <a:pt x="0" y="36766"/>
                  </a:lnTo>
                  <a:arcTo wR="3600" hR="3600" stAng="10800000" swAng="-5400000"/>
                  <a:lnTo>
                    <a:pt x="18000" y="403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673440" y="3888000"/>
              <a:ext cx="1193400" cy="1424160"/>
            </a:xfrm>
            <a:custGeom>
              <a:avLst/>
              <a:gdLst>
                <a:gd name="textAreaLeft" fmla="*/ 57960 w 1193400"/>
                <a:gd name="textAreaRight" fmla="*/ 1135440 w 1193400"/>
                <a:gd name="textAreaTop" fmla="*/ 57960 h 1424160"/>
                <a:gd name="textAreaBottom" fmla="*/ 1366200 h 1424160"/>
              </a:gdLst>
              <a:ahLst/>
              <a:rect l="textAreaLeft" t="textAreaTop" r="textAreaRight" b="textAreaBottom"/>
              <a:pathLst>
                <a:path w="21600" h="25775">
                  <a:moveTo>
                    <a:pt x="3600" y="0"/>
                  </a:moveTo>
                  <a:arcTo wR="3600" hR="3600" stAng="16200000" swAng="-5400000"/>
                  <a:lnTo>
                    <a:pt x="0" y="22175"/>
                  </a:lnTo>
                  <a:arcTo wR="3600" hR="3600" stAng="10800000" swAng="-5400000"/>
                  <a:lnTo>
                    <a:pt x="18000" y="257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Q adap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xecution Model - Outbou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90720" y="274320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00400" y="281952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334120" y="281952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086600" y="251460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80988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410080" y="449568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84760" y="3948120"/>
            <a:ext cx="863280" cy="903240"/>
          </a:xfrm>
          <a:prstGeom prst="foldedCorner">
            <a:avLst>
              <a:gd name="adj" fmla="val 28310"/>
            </a:avLst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620800" y="406728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60" dur="1" fill="hold"/>
                                  <p:tgtEl>
                                    <p:spTgt spid="3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xecution Model – Outbou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WBI adaptor detects triggering event, possibly via a bridge, and creates an ASBO from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or maps ASBO to GBO and sends to subscribing collaborations on WBI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collaboration validates and fills in data as needed, and sends GBO to destination adaptors, i.e. WDI MQSeries adap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DI picks up GBO, maps it to EDI, and queues it for trans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 script picks up EDI message and sends it to the V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velopment Process - Iterativ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ments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-level requirements gathe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 Guidelines for involved messages ac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-level Use Case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 &amp; Desig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rossWorlds Integration Architecture Diagra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CIAD)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-Level Use Case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Cases and CIAD reviewed, revised as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-Level data requirements verifi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o We Are and What We Do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ntum Corp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lobal leader in data protection products and services, and the world's largest supplier of computer tape dr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s include HP, Dell, Hitachi Data Systems, IBM, and Sun Micro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than 30 domestic and 35 international distribu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 Lutze –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ark.lutze@quantum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. Hal Render –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al.render@quantum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re in the eBusiness group at Quantum and have two dut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nterprise Application Integr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EA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usiness-to-Busin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B2B) integration, primarily using E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"/>
          <p:cNvGraphicFramePr/>
          <p:nvPr/>
        </p:nvGraphicFramePr>
        <p:xfrm>
          <a:off x="0" y="457200"/>
          <a:ext cx="8999640" cy="56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8999640" cy="56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velopment Process (cont.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objects (including XML Document Type Definitions)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ridg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data translation scripts)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DI and WBI maps and End-to-End Mapping Document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collaboration templates and collaboration objects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adaptors created/configu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idges, maps, collaborations, and adaptors unit-tes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to-End Integration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r Acceptance Testing (UA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velopment Process (cont.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lo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bridges and WBI/WDI code deployed to production ser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ion configuration of bridges, adaptors, and collaboration ob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components activated and supporting jobs schedu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loyment monito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Operations Suppor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itor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bridges and WBI adaptors flag connection or data erro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WBI ICS flags processing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 scripts monitor system logs and some system compon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r VAN monitors problems with EDI messages and transmi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ripts and WBI components generate notification emails to Quantum EDI Administrators when they detect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Operations Support (cont.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suspends processing failures in the ICS as “failed flow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WBI administrator troubleshoots the probl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tools allow WBI administrators to browse failed flows, read errors messages, look at the state of in-process business objects, make code changes, and restart or discard the failed flow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lems are usually corrected and the affected flows are resta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ccasionally flows are discarded and the messages are corrected and resubmitted from the source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Lessons Learned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Streng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Streng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istributed system has pros and c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a good 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use existing work whenever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 Message Form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ment Languages (Java, XML, Per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ment Artifacts (Processes, Components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new artifacts to extend or fill gaps in existing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) Application bridges, Formatted Data Hand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Future Work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PI to the 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a single gateway to the outside wor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a general XML Gateway to our 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ving towards XML as the standard interface data format for enterprise application integr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RosettaNet or other standard XML B2B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ving towards XML as the standard interface data format for inter-enterprise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a Quantum EDI por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users/customers with intranet/extranet access to EDI system status and transaction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ow We Came To Use WDI/WBI – Part 1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2400" y="153468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0: Chose CrossWorlds Software for EAI and B2B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for RosettaNet pilots involving WebMethods, Viacore, and later Cyclone Commerce to connect directly to trading part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for initial production EAI implemen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1-2: Migration of EDI legacy infrastructure to CrossWor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herited corporate EDI responsibilities, and found that our legacy EDI translator (AMTrix) was end-of-li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lt CrossWorlds with it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rading Partner Interchan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TPI) and EDI Data-handler components looked promising for EDI proces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CrossWorlds to implement EDI 850, 820, 823, 810 and other EAI and B2B implementations, including support for major ERP up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d various issues, and came to the conclusion that CrossWorlds by itself is not an ideal EDI solu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AI – Hub and Spoke Architecture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733920" y="3103560"/>
            <a:ext cx="1676160" cy="81108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4114800" y="1143000"/>
            <a:ext cx="914400" cy="1960200"/>
            <a:chOff x="4114800" y="1143000"/>
            <a:chExt cx="914400" cy="1960200"/>
          </a:xfrm>
        </p:grpSpPr>
        <p:sp>
          <p:nvSpPr>
            <p:cNvPr id="149" name=""/>
            <p:cNvSpPr/>
            <p:nvPr/>
          </p:nvSpPr>
          <p:spPr>
            <a:xfrm>
              <a:off x="4114800" y="16160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14800" y="114300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rac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R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343400" y="222480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195160" y="1395720"/>
            <a:ext cx="1684440" cy="2016360"/>
            <a:chOff x="5195160" y="1395720"/>
            <a:chExt cx="1684440" cy="2016360"/>
          </a:xfrm>
        </p:grpSpPr>
        <p:sp>
          <p:nvSpPr>
            <p:cNvPr id="153" name=""/>
            <p:cNvSpPr/>
            <p:nvPr/>
          </p:nvSpPr>
          <p:spPr>
            <a:xfrm rot="2095200">
              <a:off x="5602320" y="19904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2095200">
              <a:off x="5815080" y="158436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RM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2095200">
              <a:off x="5402880" y="247356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1696680" y="1865880"/>
            <a:ext cx="2233080" cy="1624320"/>
            <a:chOff x="1696680" y="1865880"/>
            <a:chExt cx="2233080" cy="1624320"/>
          </a:xfrm>
        </p:grpSpPr>
        <p:sp>
          <p:nvSpPr>
            <p:cNvPr id="157" name=""/>
            <p:cNvSpPr/>
            <p:nvPr/>
          </p:nvSpPr>
          <p:spPr>
            <a:xfrm rot="17983200">
              <a:off x="2252520" y="2309400"/>
              <a:ext cx="811440" cy="6858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7983200">
              <a:off x="1888920" y="1987560"/>
              <a:ext cx="811440" cy="91440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7983200">
              <a:off x="3177360" y="2562120"/>
              <a:ext cx="430920" cy="990720"/>
            </a:xfrm>
            <a:prstGeom prst="upDownArrow">
              <a:avLst>
                <a:gd name="adj1" fmla="val 50000"/>
                <a:gd name="adj2" fmla="val 45769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014920" y="3567240"/>
            <a:ext cx="1922760" cy="1936080"/>
            <a:chOff x="2014920" y="3567240"/>
            <a:chExt cx="1922760" cy="1936080"/>
          </a:xfrm>
        </p:grpSpPr>
        <p:sp>
          <p:nvSpPr>
            <p:cNvPr id="161" name=""/>
            <p:cNvSpPr/>
            <p:nvPr/>
          </p:nvSpPr>
          <p:spPr>
            <a:xfrm flipV="1" rot="2638800">
              <a:off x="2473560" y="42732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 rot="2638800">
              <a:off x="3214800" y="361224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2638800">
              <a:off x="2168280" y="448776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Ne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4114800" y="3914280"/>
            <a:ext cx="914400" cy="2028960"/>
            <a:chOff x="4114800" y="3914280"/>
            <a:chExt cx="914400" cy="2028960"/>
          </a:xfrm>
        </p:grpSpPr>
        <p:sp>
          <p:nvSpPr>
            <p:cNvPr id="165" name=""/>
            <p:cNvSpPr/>
            <p:nvPr/>
          </p:nvSpPr>
          <p:spPr>
            <a:xfrm flipV="1">
              <a:off x="4114800" y="47934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4343400" y="391392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14800" y="513180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H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5224320" y="3503880"/>
            <a:ext cx="2297160" cy="1655640"/>
            <a:chOff x="5224320" y="3503880"/>
            <a:chExt cx="2297160" cy="1655640"/>
          </a:xfrm>
        </p:grpSpPr>
        <p:sp>
          <p:nvSpPr>
            <p:cNvPr id="169" name=""/>
            <p:cNvSpPr/>
            <p:nvPr/>
          </p:nvSpPr>
          <p:spPr>
            <a:xfrm flipV="1" rot="17925600">
              <a:off x="6085440" y="4001400"/>
              <a:ext cx="811440" cy="6858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 rot="17925600">
              <a:off x="5546520" y="3435120"/>
              <a:ext cx="430920" cy="990360"/>
            </a:xfrm>
            <a:prstGeom prst="upDownArrow">
              <a:avLst>
                <a:gd name="adj1" fmla="val 50000"/>
                <a:gd name="adj2" fmla="val 4575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7925600">
              <a:off x="6519600" y="4126680"/>
              <a:ext cx="811440" cy="91440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rossWorlds with TPI and EDI Data Handler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33920" y="3103560"/>
            <a:ext cx="1676160" cy="81108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4114800" y="1143000"/>
            <a:ext cx="914400" cy="1960200"/>
            <a:chOff x="4114800" y="1143000"/>
            <a:chExt cx="914400" cy="1960200"/>
          </a:xfrm>
        </p:grpSpPr>
        <p:sp>
          <p:nvSpPr>
            <p:cNvPr id="175" name=""/>
            <p:cNvSpPr/>
            <p:nvPr/>
          </p:nvSpPr>
          <p:spPr>
            <a:xfrm>
              <a:off x="4114800" y="16160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114800" y="114300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rac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R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343400" y="222480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195160" y="1395720"/>
            <a:ext cx="1684440" cy="2016360"/>
            <a:chOff x="5195160" y="1395720"/>
            <a:chExt cx="1684440" cy="2016360"/>
          </a:xfrm>
        </p:grpSpPr>
        <p:sp>
          <p:nvSpPr>
            <p:cNvPr id="179" name=""/>
            <p:cNvSpPr/>
            <p:nvPr/>
          </p:nvSpPr>
          <p:spPr>
            <a:xfrm rot="2095200">
              <a:off x="5602320" y="19904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2095200">
              <a:off x="5815080" y="158436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RM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2095200">
              <a:off x="5402880" y="247356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 rot="17983200">
            <a:off x="2251800" y="2308680"/>
            <a:ext cx="811080" cy="685800"/>
          </a:xfrm>
          <a:prstGeom prst="diamond">
            <a:avLst/>
          </a:prstGeom>
          <a:solidFill>
            <a:srgbClr val="2db6b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7983200">
            <a:off x="1888200" y="1986120"/>
            <a:ext cx="811080" cy="914400"/>
          </a:xfrm>
          <a:prstGeom prst="rect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P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17983200">
            <a:off x="3177360" y="2561040"/>
            <a:ext cx="430200" cy="990360"/>
          </a:xfrm>
          <a:prstGeom prst="upDownArrow">
            <a:avLst>
              <a:gd name="adj1" fmla="val 50000"/>
              <a:gd name="adj2" fmla="val 45828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014920" y="3567240"/>
            <a:ext cx="1922760" cy="1936080"/>
            <a:chOff x="2014920" y="3567240"/>
            <a:chExt cx="1922760" cy="1936080"/>
          </a:xfrm>
        </p:grpSpPr>
        <p:sp>
          <p:nvSpPr>
            <p:cNvPr id="186" name=""/>
            <p:cNvSpPr/>
            <p:nvPr/>
          </p:nvSpPr>
          <p:spPr>
            <a:xfrm flipV="1" rot="2638800">
              <a:off x="2473560" y="42732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 rot="2638800">
              <a:off x="3214800" y="361224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638800">
              <a:off x="2168280" y="448776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Ne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114800" y="3914280"/>
            <a:ext cx="914400" cy="2028960"/>
            <a:chOff x="4114800" y="3914280"/>
            <a:chExt cx="914400" cy="2028960"/>
          </a:xfrm>
        </p:grpSpPr>
        <p:sp>
          <p:nvSpPr>
            <p:cNvPr id="190" name=""/>
            <p:cNvSpPr/>
            <p:nvPr/>
          </p:nvSpPr>
          <p:spPr>
            <a:xfrm flipV="1">
              <a:off x="4114800" y="47934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4343400" y="391392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114800" y="513180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H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5224320" y="3503880"/>
            <a:ext cx="2297160" cy="1655640"/>
            <a:chOff x="5224320" y="3503880"/>
            <a:chExt cx="2297160" cy="1655640"/>
          </a:xfrm>
        </p:grpSpPr>
        <p:sp>
          <p:nvSpPr>
            <p:cNvPr id="194" name=""/>
            <p:cNvSpPr/>
            <p:nvPr/>
          </p:nvSpPr>
          <p:spPr>
            <a:xfrm flipV="1" rot="17925600">
              <a:off x="6085440" y="4001400"/>
              <a:ext cx="811440" cy="6858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 rot="17925600">
              <a:off x="5546520" y="3435120"/>
              <a:ext cx="430920" cy="990360"/>
            </a:xfrm>
            <a:prstGeom prst="upDownArrow">
              <a:avLst>
                <a:gd name="adj1" fmla="val 50000"/>
                <a:gd name="adj2" fmla="val 4575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7925600">
              <a:off x="6519600" y="4126680"/>
              <a:ext cx="811440" cy="91440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1752480" y="1828800"/>
            <a:ext cx="685800" cy="68580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2438280"/>
            <a:ext cx="990360" cy="533520"/>
          </a:xfrm>
          <a:prstGeom prst="foldedCorner">
            <a:avLst>
              <a:gd name="adj" fmla="val 28310"/>
            </a:avLst>
          </a:prstGeom>
          <a:solidFill>
            <a:srgbClr val="d1821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V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90920" y="2590920"/>
            <a:ext cx="1295280" cy="45720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10 - GB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76720" y="3276720"/>
            <a:ext cx="1295280" cy="45720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10 - GB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3276720"/>
            <a:ext cx="990360" cy="533160"/>
          </a:xfrm>
          <a:prstGeom prst="foldedCorner">
            <a:avLst>
              <a:gd name="adj" fmla="val 28310"/>
            </a:avLst>
          </a:prstGeom>
          <a:solidFill>
            <a:srgbClr val="d1821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V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4" dur="1" fill="hold"/>
                                  <p:tgtEl>
                                    <p:spTgt spid="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ow We Came To Use WDI/WBI – Part 2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-3:  WDI to the Resc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BM purchased CrossWorlds and renamed product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ebSphere Business Integr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WBI). IBM postponed enhancements to TPI and EDI data-handler components.  We learned of WD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 outsourced its manufacturing, which required us to implement many new EDI transactions quickly – enter WD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ld a 1-week trial to prove that we could get WDI running in our environment and have it communicate with WBI.  Mostly this involved installing the software and configuring MQSer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ld another 1-week trial to expand on prior work and demonstrate functionality of WDI.  Did 1 inbound and 1 outbound EDI transa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d a 1-Week onsite training/mentoring session with WDI consulta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ed &amp; deployed 7 new EDI transactions in 6 weeks using WD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DI and WBI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733920" y="3103560"/>
            <a:ext cx="1676160" cy="81108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4114800" y="1143000"/>
            <a:ext cx="914400" cy="1960200"/>
            <a:chOff x="4114800" y="1143000"/>
            <a:chExt cx="914400" cy="1960200"/>
          </a:xfrm>
        </p:grpSpPr>
        <p:sp>
          <p:nvSpPr>
            <p:cNvPr id="207" name=""/>
            <p:cNvSpPr/>
            <p:nvPr/>
          </p:nvSpPr>
          <p:spPr>
            <a:xfrm>
              <a:off x="4114800" y="16160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114800" y="114300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rac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R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343400" y="222480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5195160" y="1395720"/>
            <a:ext cx="1684440" cy="2016360"/>
            <a:chOff x="5195160" y="1395720"/>
            <a:chExt cx="1684440" cy="2016360"/>
          </a:xfrm>
        </p:grpSpPr>
        <p:sp>
          <p:nvSpPr>
            <p:cNvPr id="211" name=""/>
            <p:cNvSpPr/>
            <p:nvPr/>
          </p:nvSpPr>
          <p:spPr>
            <a:xfrm rot="2095200">
              <a:off x="5602320" y="19904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2095200">
              <a:off x="5815080" y="158436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RM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2095200">
              <a:off x="5402880" y="247356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 rot="17983200">
            <a:off x="2251800" y="2308680"/>
            <a:ext cx="811080" cy="685800"/>
          </a:xfrm>
          <a:prstGeom prst="diamond">
            <a:avLst/>
          </a:prstGeom>
          <a:solidFill>
            <a:srgbClr val="2db6b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7983200">
            <a:off x="1888200" y="1986120"/>
            <a:ext cx="811080" cy="914400"/>
          </a:xfrm>
          <a:prstGeom prst="rect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W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17983200">
            <a:off x="3177360" y="2561040"/>
            <a:ext cx="430200" cy="990360"/>
          </a:xfrm>
          <a:prstGeom prst="upDownArrow">
            <a:avLst>
              <a:gd name="adj1" fmla="val 50000"/>
              <a:gd name="adj2" fmla="val 45828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014920" y="3567240"/>
            <a:ext cx="1922760" cy="1936080"/>
            <a:chOff x="2014920" y="3567240"/>
            <a:chExt cx="1922760" cy="1936080"/>
          </a:xfrm>
        </p:grpSpPr>
        <p:sp>
          <p:nvSpPr>
            <p:cNvPr id="218" name=""/>
            <p:cNvSpPr/>
            <p:nvPr/>
          </p:nvSpPr>
          <p:spPr>
            <a:xfrm flipV="1" rot="2638800">
              <a:off x="2473560" y="42732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 rot="2638800">
              <a:off x="3214800" y="361224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2638800">
              <a:off x="2168280" y="448776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Ne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4114800" y="3914280"/>
            <a:ext cx="914400" cy="2028960"/>
            <a:chOff x="4114800" y="3914280"/>
            <a:chExt cx="914400" cy="2028960"/>
          </a:xfrm>
        </p:grpSpPr>
        <p:sp>
          <p:nvSpPr>
            <p:cNvPr id="222" name=""/>
            <p:cNvSpPr/>
            <p:nvPr/>
          </p:nvSpPr>
          <p:spPr>
            <a:xfrm flipV="1">
              <a:off x="4114800" y="47934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4343400" y="391392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114800" y="513180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H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5224320" y="3503880"/>
            <a:ext cx="2297160" cy="1655640"/>
            <a:chOff x="5224320" y="3503880"/>
            <a:chExt cx="2297160" cy="1655640"/>
          </a:xfrm>
        </p:grpSpPr>
        <p:sp>
          <p:nvSpPr>
            <p:cNvPr id="226" name=""/>
            <p:cNvSpPr/>
            <p:nvPr/>
          </p:nvSpPr>
          <p:spPr>
            <a:xfrm flipV="1" rot="17925600">
              <a:off x="6085440" y="4001400"/>
              <a:ext cx="811440" cy="6858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 rot="17925600">
              <a:off x="5546520" y="3435120"/>
              <a:ext cx="430920" cy="990360"/>
            </a:xfrm>
            <a:prstGeom prst="upDownArrow">
              <a:avLst>
                <a:gd name="adj1" fmla="val 50000"/>
                <a:gd name="adj2" fmla="val 4575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17925600">
              <a:off x="6519600" y="4126680"/>
              <a:ext cx="811440" cy="91440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1752480" y="1828800"/>
            <a:ext cx="685800" cy="68580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19520" y="2743200"/>
            <a:ext cx="990360" cy="533520"/>
          </a:xfrm>
          <a:prstGeom prst="foldedCorner">
            <a:avLst>
              <a:gd name="adj" fmla="val 28310"/>
            </a:avLst>
          </a:prstGeom>
          <a:solidFill>
            <a:srgbClr val="d1821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V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038480" y="3276720"/>
            <a:ext cx="990720" cy="533160"/>
          </a:xfrm>
          <a:prstGeom prst="foldedCorner">
            <a:avLst>
              <a:gd name="adj" fmla="val 28310"/>
            </a:avLst>
          </a:prstGeom>
          <a:solidFill>
            <a:srgbClr val="d1821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V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6" dur="1" fill="hold"/>
                                  <p:tgtEl>
                                    <p:spTgt spid="2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- Overvie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2743200"/>
            <a:ext cx="3333600" cy="609480"/>
          </a:xfrm>
          <a:prstGeom prst="leftRightArrow">
            <a:avLst>
              <a:gd name="adj1" fmla="val 50000"/>
              <a:gd name="adj2" fmla="val 108885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er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mainfrm"/>
          <p:cNvSpPr/>
          <p:nvPr/>
        </p:nvSpPr>
        <p:spPr>
          <a:xfrm>
            <a:off x="1628640" y="1552680"/>
            <a:ext cx="1605240" cy="117936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mainfrm"/>
          <p:cNvSpPr/>
          <p:nvPr/>
        </p:nvSpPr>
        <p:spPr>
          <a:xfrm>
            <a:off x="1628640" y="4232160"/>
            <a:ext cx="1605240" cy="117972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189160" y="3048120"/>
            <a:ext cx="554040" cy="1145880"/>
          </a:xfrm>
          <a:prstGeom prst="upDownArrow">
            <a:avLst>
              <a:gd name="adj1" fmla="val 50000"/>
              <a:gd name="adj2" fmla="val 41173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erit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20720" y="1066680"/>
            <a:ext cx="41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BI (CrossWorlds) Server Clu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54800" y="1752480"/>
            <a:ext cx="14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er (IC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30040" y="4495680"/>
            <a:ext cx="143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positor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74480" y="27432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n E45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541008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n E45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6633000" y="1752480"/>
            <a:ext cx="1954800" cy="2882880"/>
            <a:chOff x="6633000" y="1752480"/>
            <a:chExt cx="1954800" cy="2882880"/>
          </a:xfrm>
        </p:grpSpPr>
        <p:sp>
          <p:nvSpPr>
            <p:cNvPr id="243" name="tower"/>
            <p:cNvSpPr/>
            <p:nvPr/>
          </p:nvSpPr>
          <p:spPr>
            <a:xfrm>
              <a:off x="7086600" y="2286000"/>
              <a:ext cx="904680" cy="18097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887520" y="1752480"/>
              <a:ext cx="139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WDI Ser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633000" y="4267080"/>
              <a:ext cx="195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aq ProLia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– MQ Configur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19520" y="2590920"/>
            <a:ext cx="3943080" cy="485640"/>
          </a:xfrm>
          <a:prstGeom prst="leftRightArrow">
            <a:avLst>
              <a:gd name="adj1" fmla="val 50000"/>
              <a:gd name="adj2" fmla="val 161635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Q Ser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385560" y="1143000"/>
            <a:ext cx="2575080" cy="4667400"/>
            <a:chOff x="385560" y="1143000"/>
            <a:chExt cx="2575080" cy="4667400"/>
          </a:xfrm>
        </p:grpSpPr>
        <p:sp>
          <p:nvSpPr>
            <p:cNvPr id="249" name="mainfrm"/>
            <p:cNvSpPr/>
            <p:nvPr/>
          </p:nvSpPr>
          <p:spPr>
            <a:xfrm>
              <a:off x="826920" y="1655640"/>
              <a:ext cx="1604880" cy="11793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06080" y="114300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WBI Server Clus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85560" y="2973240"/>
              <a:ext cx="257508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ue Manager: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wprod.queue.manag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mote Queue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_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ML_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Queue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_O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ML_O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6630840" y="990720"/>
            <a:ext cx="2035440" cy="4820040"/>
            <a:chOff x="6630840" y="990720"/>
            <a:chExt cx="2035440" cy="4820040"/>
          </a:xfrm>
        </p:grpSpPr>
        <p:sp>
          <p:nvSpPr>
            <p:cNvPr id="253" name="tower"/>
            <p:cNvSpPr/>
            <p:nvPr/>
          </p:nvSpPr>
          <p:spPr>
            <a:xfrm>
              <a:off x="7086600" y="1447920"/>
              <a:ext cx="904680" cy="14158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936480" y="990720"/>
              <a:ext cx="139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WDI Ser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630840" y="2973600"/>
              <a:ext cx="20354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ue Manager: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QM_wdi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Queue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_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ML_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mote Queue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_O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ML_O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Hal Render, Mark Lutze</dc:creator>
  <dc:description/>
  <dc:language>en-US</dc:language>
  <cp:lastModifiedBy>IBM_USER</cp:lastModifiedBy>
  <dcterms:modified xsi:type="dcterms:W3CDTF">2003-09-17T17:43:24Z</dcterms:modified>
  <cp:revision>944</cp:revision>
  <dc:subject/>
  <dc:title>Case Study: WDI/WBI at Quantum</dc:title>
</cp:coreProperties>
</file>